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705"/>
          <a:stretch/>
        </p:blipFill>
        <p:spPr>
          <a:xfrm>
            <a:off x="7077240" y="455760"/>
            <a:ext cx="175572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28600"/>
            <a:ext cx="670572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1920" y="6602400"/>
            <a:ext cx="116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27360" y="6536520"/>
            <a:ext cx="615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for PeopleSoft 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eopleSoft Solution Team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d0a660"/>
                </a:solidFill>
                <a:latin typeface="Arial"/>
              </a:rPr>
              <a:t> </a:t>
            </a:r>
            <a:fld id="{92C9E5FD-A05A-45F7-A49D-2DCFE9F3269E}" type="slidenum">
              <a:rPr b="0" lang="en-US" sz="1000" spc="-1" strike="noStrike">
                <a:solidFill>
                  <a:srgbClr val="d0a6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14088"/>
          <a:stretch/>
        </p:blipFill>
        <p:spPr>
          <a:xfrm>
            <a:off x="6573960" y="546120"/>
            <a:ext cx="171432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9760" indent="0"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1001"/>
              </a:spcBef>
              <a:spcAft>
                <a:spcPts val="201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ide.corp.bearingpoint.com/?nodeid=28705&amp;ContentTypeID=14" TargetMode="External"/><Relationship Id="rId2" Type="http://schemas.openxmlformats.org/officeDocument/2006/relationships/hyperlink" Target="http://inside.corp.bearingpoint.com/?nodeid=28705&amp;ContentTypeID=14" TargetMode="External"/><Relationship Id="rId3" Type="http://schemas.openxmlformats.org/officeDocument/2006/relationships/hyperlink" Target="http://inside.corp.bearingpoint.com/?nodeid=28705&amp;ContentTypeID=14" TargetMode="External"/><Relationship Id="rId4" Type="http://schemas.openxmlformats.org/officeDocument/2006/relationships/hyperlink" Target="http://inside.corp.bearingpoint.com/?nodeid=28705&amp;ContentTypeID=14" TargetMode="External"/><Relationship Id="rId5" Type="http://schemas.openxmlformats.org/officeDocument/2006/relationships/hyperlink" Target="http://inside.corp.bearingpoint.com/?nodeid=28705&amp;ContentTypeID=14" TargetMode="External"/><Relationship Id="rId6" Type="http://schemas.openxmlformats.org/officeDocument/2006/relationships/hyperlink" Target="http://inside.corp.bearingpoint.com/?nodeid=28705&amp;ContentTypeID=14" TargetMode="External"/><Relationship Id="rId7" Type="http://schemas.openxmlformats.org/officeDocument/2006/relationships/hyperlink" Target="http://inside.corp.bearingpoint.com/?nodeid=28705&amp;ContentTypeID=14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72.16.24.33/psoft/fms88/index.htm" TargetMode="External"/><Relationship Id="rId2" Type="http://schemas.openxmlformats.org/officeDocument/2006/relationships/hyperlink" Target="http://172.16.24.33/psoft/fms88/index.htm" TargetMode="External"/><Relationship Id="rId3" Type="http://schemas.openxmlformats.org/officeDocument/2006/relationships/hyperlink" Target="http://172.16.24.33/psoft/fms88/index.htm" TargetMode="External"/><Relationship Id="rId4" Type="http://schemas.openxmlformats.org/officeDocument/2006/relationships/hyperlink" Target="http://172.16.24.33/psoft/fms88/index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acts 8.8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8440" y="6607080"/>
            <a:ext cx="3324240" cy="12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3928680"/>
            <a:ext cx="80805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r PeopleSo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Soft Solu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89CF-DD50-458F-A79E-1CD145990D3A}" type="datetime3">
              <a:rPr b="1" lang="en-US" sz="18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Definition for Procurement” to view the Workflow Interpreter (Task: ++PeopleSoft Enterprise). This provides description of the process, tasks included, events initiated, inputs accepted, and outputs deliver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Process Flows for CA 8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reate Sales Contr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reate%20Sales%20Contract" descr=""/>
          <p:cNvPicPr/>
          <p:nvPr/>
        </p:nvPicPr>
        <p:blipFill>
          <a:blip r:embed="rId1"/>
          <a:stretch/>
        </p:blipFill>
        <p:spPr>
          <a:xfrm>
            <a:off x="1782720" y="2068560"/>
            <a:ext cx="55785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7160" y="447840"/>
            <a:ext cx="66117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Terms and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Define%20Terms%20and%20Conditions" descr=""/>
          <p:cNvPicPr/>
          <p:nvPr/>
        </p:nvPicPr>
        <p:blipFill>
          <a:blip r:embed="rId1"/>
          <a:stretch/>
        </p:blipFill>
        <p:spPr>
          <a:xfrm>
            <a:off x="446040" y="1604880"/>
            <a:ext cx="82519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62676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ture Contract Pri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apture%20Contract%20Pricing" descr=""/>
          <p:cNvPicPr/>
          <p:nvPr/>
        </p:nvPicPr>
        <p:blipFill>
          <a:blip r:embed="rId1"/>
          <a:stretch/>
        </p:blipFill>
        <p:spPr>
          <a:xfrm>
            <a:off x="3240" y="2263680"/>
            <a:ext cx="914076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62676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ntract Milestones and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Define%20Contract%20Milestones%20and%20Plans" descr=""/>
          <p:cNvPicPr/>
          <p:nvPr/>
        </p:nvPicPr>
        <p:blipFill>
          <a:blip r:embed="rId1"/>
          <a:stretch/>
        </p:blipFill>
        <p:spPr>
          <a:xfrm>
            <a:off x="1492200" y="1176480"/>
            <a:ext cx="4195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2676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 Contract Bi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Manage%20Contract%20Billing" descr=""/>
          <p:cNvPicPr/>
          <p:nvPr/>
        </p:nvPicPr>
        <p:blipFill>
          <a:blip r:embed="rId1"/>
          <a:stretch/>
        </p:blipFill>
        <p:spPr>
          <a:xfrm>
            <a:off x="0" y="1778040"/>
            <a:ext cx="91407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2676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 Contract Reven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Manage%20Contract%20Revenue" descr=""/>
          <p:cNvPicPr/>
          <p:nvPr/>
        </p:nvPicPr>
        <p:blipFill>
          <a:blip r:embed="rId1"/>
          <a:stretch/>
        </p:blipFill>
        <p:spPr>
          <a:xfrm>
            <a:off x="0" y="2413080"/>
            <a:ext cx="91407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201320"/>
            <a:ext cx="8680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esentation was prepared by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lie Babicz, Senior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ringPoi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725 W. Higgins R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cago, IL  606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: +1.773.867.622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x: +1.773.714.039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mail: millie.babicz@bearingpoint.co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4873680"/>
            <a:ext cx="85219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ocument is protected under the copyright laws of the United States and/or other countries as an unpublished work.. This document contains information that is proprietary and confidential to BearingPoint, Inc. and/or its affiliate(s), or its alliance partners, which shall not be duplicated, used, or disclosed in whole or in part for any purpose other than to evaluate BearingPoint, Inc. and/or its affiliate(s).  Any use or disclosure in whole or in part of this information without the express written permission of BearingPoint, Inc. is prohibi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BearingPoint, Inc. and/or its affiliate(s) (Unpublished).  All rights reserved.  Rapid Return on Investment is a component of BearingPoint's ProvenCourse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livery framework;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is a registered trademark and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Rapid Return on Investment is a service mark of BearingPoint, Inc. and its affiliate(s) in some countr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enCours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BearingPoin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Business and Systems Aligned. Business Empowere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rademarks or service marks of BearingPoint, Inc. and/or its affili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2: Access The Process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3: Navigate The Process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e Process Flows 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Process Flows for C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Sales Con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 Terms and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ture Contract Pr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 Contract Milestones and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 Contract Bi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 Contract Reve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ocument serves t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 the user on the access procedure for PeopleSoft FMS 8.8 Process Flows on PeopleSoft Sandbo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ample process flows from PeopleSoft Contracts 8.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 VPN Dia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ntry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ame or IP Address of remote server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Connect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 &lt;firstname.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&lt;your pw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: bsc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not have a BSC Account, go to 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1"/>
              </a:rPr>
              <a:t>http://inside.corp.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2"/>
              </a:rPr>
              <a:t>bearingpoint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3"/>
              </a:rPr>
              <a:t>.com/?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4"/>
              </a:rPr>
              <a:t>nod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5"/>
              </a:rPr>
              <a:t>=28705&amp;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6"/>
              </a:rPr>
              <a:t>ContentTyp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7"/>
              </a:rPr>
              <a:t>=1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ownload access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Access the Process Fl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flows can be accessed via 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1"/>
              </a:rPr>
              <a:t>http://172.16.24.33/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2"/>
              </a:rPr>
              <a:t>psoft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3"/>
              </a:rPr>
              <a:t>/fms88/index.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4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05000" y="1612800"/>
            <a:ext cx="6624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 Navigate the Process Flow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721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“Process Modeler: ++PeopleSoft Enterprise” hyperlink on the left pa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870280"/>
            <a:ext cx="200664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Procurement”, then “Process Modeler: Procur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0680" y="4610160"/>
            <a:ext cx="142236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3588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ess the next level of process flow, click on “Process Modeler: Settle Supplier Invoic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1360" y="5473800"/>
            <a:ext cx="1854360" cy="215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43:05Z</dcterms:created>
  <dc:creator>R²i For PeopleSoft</dc:creator>
  <dc:description>&lt;CLIENT NAME&gt;</dc:description>
  <cp:keywords>8.8</cp:keywords>
  <dc:language>en-US</dc:language>
  <cp:lastModifiedBy>Gauri Mohnalkar</cp:lastModifiedBy>
  <dcterms:modified xsi:type="dcterms:W3CDTF">2004-09-20T13:41:29Z</dcterms:modified>
  <cp:revision>212</cp:revision>
  <dc:subject>&lt;PROJECT NAME&gt;</dc:subject>
  <dc:title>Contracts</dc:title>
</cp:coreProperties>
</file>