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03FB8DB9-6B8F-4370-8811-CBA927FED5F4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Costing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4EAE-4D05-47B2-848A-B3A1FCE89532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PC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6240" y="20304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Project Budg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reate%20Project%20Budget" descr=""/>
          <p:cNvPicPr/>
          <p:nvPr/>
        </p:nvPicPr>
        <p:blipFill>
          <a:blip r:embed="rId1"/>
          <a:stretch/>
        </p:blipFill>
        <p:spPr>
          <a:xfrm>
            <a:off x="0" y="1152360"/>
            <a:ext cx="91440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240" y="23328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Project Requests and Subm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Create%20Project%20Requests%20and%20Submit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195120"/>
            <a:ext cx="6510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Manage%20Project%20Costs" descr=""/>
          <p:cNvPicPr/>
          <p:nvPr/>
        </p:nvPicPr>
        <p:blipFill>
          <a:blip r:embed="rId1"/>
          <a:stretch/>
        </p:blipFill>
        <p:spPr>
          <a:xfrm>
            <a:off x="700200" y="1314360"/>
            <a:ext cx="7743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Materi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Manage%20Project%20Materials" descr=""/>
          <p:cNvPicPr/>
          <p:nvPr/>
        </p:nvPicPr>
        <p:blipFill>
          <a:blip r:embed="rId1"/>
          <a:stretch/>
        </p:blipFill>
        <p:spPr>
          <a:xfrm>
            <a:off x="1400040" y="2171880"/>
            <a:ext cx="63439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Portf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Manage%20Project%20Portfolio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 Project Tasks and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Manage%20Project%20Tasks%20and%20Schedule" descr="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lan%20Project" descr=""/>
          <p:cNvPicPr/>
          <p:nvPr/>
        </p:nvPicPr>
        <p:blipFill>
          <a:blip r:embed="rId1"/>
          <a:stretch/>
        </p:blipFill>
        <p:spPr>
          <a:xfrm>
            <a:off x="314280" y="1600200"/>
            <a:ext cx="851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Analyze%20Projec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Pro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Analyze%20the%20Portfolio" descr=""/>
          <p:cNvPicPr/>
          <p:nvPr/>
        </p:nvPicPr>
        <p:blipFill>
          <a:blip r:embed="rId1"/>
          <a:stretch/>
        </p:blipFill>
        <p:spPr>
          <a:xfrm>
            <a:off x="1486080" y="212760"/>
            <a:ext cx="7657920" cy="63547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784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the Portfol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Analyze%20the%20Progr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65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the Progra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 Assign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Approve%20Assignment" descr=""/>
          <p:cNvPicPr/>
          <p:nvPr/>
        </p:nvPicPr>
        <p:blipFill>
          <a:blip r:embed="rId1"/>
          <a:stretch/>
        </p:blipFill>
        <p:spPr>
          <a:xfrm>
            <a:off x="0" y="981000"/>
            <a:ext cx="6867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Approve%20Project%20Requests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4287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 Projec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Assign%20Resources%20to%20Projec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 Resources to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rogram%20Management" descr=""/>
          <p:cNvPicPr/>
          <p:nvPr/>
        </p:nvPicPr>
        <p:blipFill>
          <a:blip r:embed="rId1"/>
          <a:stretch/>
        </p:blipFill>
        <p:spPr>
          <a:xfrm>
            <a:off x="1085760" y="1405080"/>
            <a:ext cx="69724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Billing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rovide%20Billing%20Information" descr=""/>
          <p:cNvPicPr/>
          <p:nvPr/>
        </p:nvPicPr>
        <p:blipFill>
          <a:blip r:embed="rId1"/>
          <a:stretch/>
        </p:blipFill>
        <p:spPr>
          <a:xfrm>
            <a:off x="700200" y="1424160"/>
            <a:ext cx="774360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Project Accounting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Record%20Project%20Accounting%20Entries" descr=""/>
          <p:cNvPicPr/>
          <p:nvPr/>
        </p:nvPicPr>
        <p:blipFill>
          <a:blip r:embed="rId1"/>
          <a:stretch/>
        </p:blipFill>
        <p:spPr>
          <a:xfrm>
            <a:off x="0" y="1190520"/>
            <a:ext cx="914400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Project As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Record%20Project%20Asset" descr=""/>
          <p:cNvPicPr/>
          <p:nvPr/>
        </p:nvPicPr>
        <p:blipFill>
          <a:blip r:embed="rId1"/>
          <a:stretch/>
        </p:blipFill>
        <p:spPr>
          <a:xfrm>
            <a:off x="0" y="1247760"/>
            <a:ext cx="9144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0840" y="152280"/>
            <a:ext cx="651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rve or Assign Resource to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Reserve%20or%20Assign%20Resource%20to%20Project" descr=""/>
          <p:cNvPicPr/>
          <p:nvPr/>
        </p:nvPicPr>
        <p:blipFill>
          <a:blip r:embed="rId1"/>
          <a:stretch/>
        </p:blipFill>
        <p:spPr>
          <a:xfrm>
            <a:off x="1085760" y="1846440"/>
            <a:ext cx="697248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60360"/>
            <a:ext cx="868032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ample Process Flows for PC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 Project Budge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 Project Requests and Sub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Project Tasks and Sche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an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ze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ze the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alyze the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rove Project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sign Resources to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vide Billing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rd Project Accounting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ord Project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serve or Assign Resource to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ke Project Adjust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ribute Internal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fine Project Scope, Deliverables, Schedule, Resources, Tasks, and Work Breakdown Stru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ture Labor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pture Material and Expens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culate Interest and Allocate Overhead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d Specific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ceive Project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erify High Level Project Costs, Benefits and Risk Sc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 Status Reports and Manage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plet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e Project Adjust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Make%20Project%20Adjustments" descr=""/>
          <p:cNvPicPr/>
          <p:nvPr/>
        </p:nvPicPr>
        <p:blipFill>
          <a:blip r:embed="rId1"/>
          <a:stretch/>
        </p:blipFill>
        <p:spPr>
          <a:xfrm>
            <a:off x="266760" y="1171440"/>
            <a:ext cx="86104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 Internal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Distribute%20Internal%20Costs" descr=""/>
          <p:cNvPicPr/>
          <p:nvPr/>
        </p:nvPicPr>
        <p:blipFill>
          <a:blip r:embed="rId1"/>
          <a:stretch/>
        </p:blipFill>
        <p:spPr>
          <a:xfrm>
            <a:off x="0" y="1414440"/>
            <a:ext cx="91440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Define%20Project%20Scope,%20Deliverables,%20Schedule,%20Resources,%20Tasks,%20and%20Work%20Breakdown%20Structure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0760" cy="57783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024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Project Scope, Deliverables, Schedule, Resources, Tasks and Work Breakdow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apture%20Labor%20Costs" descr=""/>
          <p:cNvPicPr/>
          <p:nvPr/>
        </p:nvPicPr>
        <p:blipFill>
          <a:blip r:embed="rId1"/>
          <a:stretch/>
        </p:blipFill>
        <p:spPr>
          <a:xfrm>
            <a:off x="2297160" y="0"/>
            <a:ext cx="6846840" cy="67658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82520" y="-360"/>
            <a:ext cx="37926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Labo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Material and Expense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Capture%20Material%20and%20Expense%20Costs" descr=""/>
          <p:cNvPicPr/>
          <p:nvPr/>
        </p:nvPicPr>
        <p:blipFill>
          <a:blip r:embed="rId1"/>
          <a:stretch/>
        </p:blipFill>
        <p:spPr>
          <a:xfrm>
            <a:off x="3143160" y="450720"/>
            <a:ext cx="600084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Interest and Allocate Overhead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Calculate%20Interest%20and%20Allocate%20Overhead%20Costs" descr=""/>
          <p:cNvPicPr/>
          <p:nvPr/>
        </p:nvPicPr>
        <p:blipFill>
          <a:blip r:embed="rId1"/>
          <a:stretch/>
        </p:blipFill>
        <p:spPr>
          <a:xfrm>
            <a:off x="1846440" y="1228680"/>
            <a:ext cx="5451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Specific Resour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Find%20Specific%20Resource" descr=""/>
          <p:cNvPicPr/>
          <p:nvPr/>
        </p:nvPicPr>
        <p:blipFill>
          <a:blip r:embed="rId1"/>
          <a:stretch/>
        </p:blipFill>
        <p:spPr>
          <a:xfrm>
            <a:off x="971640" y="2057400"/>
            <a:ext cx="7200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Project Reque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Receive%20Project%20Requests" descr=""/>
          <p:cNvPicPr/>
          <p:nvPr/>
        </p:nvPicPr>
        <p:blipFill>
          <a:blip r:embed="rId1"/>
          <a:stretch/>
        </p:blipFill>
        <p:spPr>
          <a:xfrm>
            <a:off x="604800" y="1881360"/>
            <a:ext cx="793440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ify High Level Project Costs, Benefits and Risk Sco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Verify%20High%20Level%20Project%20Costs,%20Benefits%20and%20Risk%20Scores" descr=""/>
          <p:cNvPicPr/>
          <p:nvPr/>
        </p:nvPicPr>
        <p:blipFill>
          <a:blip r:embed="rId1"/>
          <a:stretch/>
        </p:blipFill>
        <p:spPr>
          <a:xfrm>
            <a:off x="0" y="2500200"/>
            <a:ext cx="9144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tatus Reports and Manag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Create%20Status%20Reports%20and%20Manage%20Issues" descr="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Project Costing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Complete%20Project" descr=""/>
          <p:cNvPicPr/>
          <p:nvPr/>
        </p:nvPicPr>
        <p:blipFill>
          <a:blip r:embed="rId1"/>
          <a:stretch/>
        </p:blipFill>
        <p:spPr>
          <a:xfrm>
            <a:off x="42840" y="1652760"/>
            <a:ext cx="905832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Execute%20Project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52200" y="0"/>
            <a:ext cx="5405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ecute Proje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10-05T16:46:20Z</dcterms:modified>
  <cp:revision>231</cp:revision>
  <dc:subject>&lt;PROJECT NAME&gt;</dc:subject>
  <dc:title>General Ledger</dc:title>
</cp:coreProperties>
</file>