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E1311FC4-086C-4AA2-8E98-30216A9E4119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set Management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2C3A-62A6-441E-8B14-02910F032C9A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28, 2026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AM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ord%20Assets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337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Ass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ord%20Journal%20Entri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337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Journal Ent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84040"/>
            <a:ext cx="651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Capital Pl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Establish%20Capital%20Plan" descr=""/>
          <p:cNvPicPr/>
          <p:nvPr/>
        </p:nvPicPr>
        <p:blipFill>
          <a:blip r:embed="rId1"/>
          <a:stretch/>
        </p:blipFill>
        <p:spPr>
          <a:xfrm>
            <a:off x="971640" y="2193840"/>
            <a:ext cx="72007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 and Record Depreci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Calculate%20and%20Record%20Depreciation" descr=""/>
          <p:cNvPicPr/>
          <p:nvPr/>
        </p:nvPicPr>
        <p:blipFill>
          <a:blip r:embed="rId1"/>
          <a:stretch/>
        </p:blipFill>
        <p:spPr>
          <a:xfrm>
            <a:off x="3240" y="1371600"/>
            <a:ext cx="914076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pture Trans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apture%20Transactions" descr=""/>
          <p:cNvPicPr/>
          <p:nvPr/>
        </p:nvPicPr>
        <p:blipFill>
          <a:blip r:embed="rId1"/>
          <a:stretch/>
        </p:blipFill>
        <p:spPr>
          <a:xfrm>
            <a:off x="1189080" y="1228680"/>
            <a:ext cx="67658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1920" y="202680"/>
            <a:ext cx="6713640" cy="5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 Physical Inven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erform%20Physical%20Inventory" descr=""/>
          <p:cNvPicPr/>
          <p:nvPr/>
        </p:nvPicPr>
        <p:blipFill>
          <a:blip r:embed="rId1"/>
          <a:stretch/>
        </p:blipFill>
        <p:spPr>
          <a:xfrm>
            <a:off x="0" y="1438200"/>
            <a:ext cx="914400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1880" y="309240"/>
            <a:ext cx="66373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and Analyze Asset Re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repare%20and%20Analyze%20Asset%20Reports" descr=""/>
          <p:cNvPicPr/>
          <p:nvPr/>
        </p:nvPicPr>
        <p:blipFill>
          <a:blip r:embed="rId1"/>
          <a:stretch/>
        </p:blipFill>
        <p:spPr>
          <a:xfrm>
            <a:off x="622440" y="1131840"/>
            <a:ext cx="78976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e Asset Maintenance and Repa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Schedule%20Asset%20Maintenance%20and%20Repair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260360"/>
            <a:ext cx="8680320" cy="53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ocess Flows for 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rd Journal E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ablish Capital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ulate and Record Depre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pture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 Physical Inven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pare and Analyze Asset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dule Asset Maintenance and Re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Asset Management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bearingpoint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race Mierwa</cp:lastModifiedBy>
  <dcterms:modified xsi:type="dcterms:W3CDTF">2004-09-20T16:30:17Z</dcterms:modified>
  <cp:revision>215</cp:revision>
  <dc:subject>&lt;PROJECT NAME&gt;</dc:subject>
  <dc:title>General Ledger</dc:title>
</cp:coreProperties>
</file>