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868032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032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400" y="388908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3320" y="147636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8040" y="147636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3320" y="388908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98040" y="388908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28600" y="1476360"/>
            <a:ext cx="868032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86803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48920"/>
            <a:ext cx="6510240" cy="26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476360"/>
            <a:ext cx="868032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6400" y="388908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032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868032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032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6400" y="388908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63320" y="147636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8040" y="147636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63320" y="388908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98040" y="388908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86803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48920"/>
            <a:ext cx="6510240" cy="26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400" y="388908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032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0" b="12705"/>
          <a:stretch/>
        </p:blipFill>
        <p:spPr>
          <a:xfrm>
            <a:off x="7077240" y="455760"/>
            <a:ext cx="1755720" cy="698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476360"/>
            <a:ext cx="86803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spcBef>
                <a:spcPts val="1925"/>
              </a:spcBef>
              <a:spcAft>
                <a:spcPts val="275"/>
              </a:spcAft>
              <a:buClr>
                <a:srgbClr val="d0a660"/>
              </a:buClr>
              <a:buSzPct val="7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2960" indent="-228600">
              <a:spcBef>
                <a:spcPts val="1925"/>
              </a:spcBef>
              <a:spcAft>
                <a:spcPts val="275"/>
              </a:spcAft>
              <a:buClr>
                <a:srgbClr val="d0a660"/>
              </a:buClr>
              <a:buSzPct val="75000"/>
              <a:buFont typeface="Arial"/>
              <a:buChar char="—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925"/>
              </a:spcBef>
              <a:spcAft>
                <a:spcPts val="275"/>
              </a:spcAft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925"/>
              </a:spcBef>
              <a:spcAft>
                <a:spcPts val="275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925"/>
              </a:spcBef>
              <a:spcAft>
                <a:spcPts val="275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925"/>
              </a:spcBef>
              <a:spcAft>
                <a:spcPts val="275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1128600"/>
            <a:ext cx="6705720" cy="0"/>
          </a:xfrm>
          <a:prstGeom prst="line">
            <a:avLst/>
          </a:prstGeom>
          <a:ln w="57240">
            <a:solidFill>
              <a:srgbClr val="d0a6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41920" y="6602400"/>
            <a:ext cx="1166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4 BearingPoint, In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727360" y="6536520"/>
            <a:ext cx="615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 for PeopleSoft </a:t>
            </a:r>
            <a:r>
              <a:rPr b="0" lang="en-US" sz="1000" spc="-1" strike="noStrike">
                <a:solidFill>
                  <a:srgbClr val="d0a66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000" spc="-1" strike="noStrike">
                <a:solidFill>
                  <a:srgbClr val="d0a66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PeopleSoft Solution Team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d0a660"/>
                </a:solidFill>
                <a:latin typeface="Arial"/>
              </a:rPr>
              <a:t> </a:t>
            </a:r>
            <a:fld id="{29743446-AC4D-45E8-9CC8-220A1D0D8F40}" type="slidenum">
              <a:rPr b="0" lang="en-US" sz="1000" spc="-1" strike="noStrike">
                <a:solidFill>
                  <a:srgbClr val="d0a66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57240">
            <a:solidFill>
              <a:srgbClr val="d0a6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57240">
            <a:solidFill>
              <a:srgbClr val="d0a6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0" r="0" b="14088"/>
          <a:stretch/>
        </p:blipFill>
        <p:spPr>
          <a:xfrm>
            <a:off x="6573960" y="546120"/>
            <a:ext cx="1714320" cy="6714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39760" indent="0" algn="ctr">
              <a:spcBef>
                <a:spcPts val="1125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84360" algn="ctr">
              <a:spcBef>
                <a:spcPts val="1001"/>
              </a:spcBef>
              <a:spcAft>
                <a:spcPts val="201"/>
              </a:spcAft>
              <a:buClr>
                <a:srgbClr val="d0a660"/>
              </a:buClr>
              <a:buSzPct val="75000"/>
              <a:buFont typeface="Arial"/>
              <a:buChar char="—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nside.corp.bearingpoint.com/?nodeid=28705&amp;ContentTypeID=14" TargetMode="External"/><Relationship Id="rId2" Type="http://schemas.openxmlformats.org/officeDocument/2006/relationships/hyperlink" Target="http://inside.corp.bearingpoint.com/?nodeid=28705&amp;ContentTypeID=14" TargetMode="External"/><Relationship Id="rId3" Type="http://schemas.openxmlformats.org/officeDocument/2006/relationships/hyperlink" Target="http://inside.corp.bearingpoint.com/?nodeid=28705&amp;ContentTypeID=14" TargetMode="External"/><Relationship Id="rId4" Type="http://schemas.openxmlformats.org/officeDocument/2006/relationships/hyperlink" Target="http://inside.corp.bearingpoint.com/?nodeid=28705&amp;ContentTypeID=14" TargetMode="External"/><Relationship Id="rId5" Type="http://schemas.openxmlformats.org/officeDocument/2006/relationships/hyperlink" Target="http://inside.corp.bearingpoint.com/?nodeid=28705&amp;ContentTypeID=14" TargetMode="External"/><Relationship Id="rId6" Type="http://schemas.openxmlformats.org/officeDocument/2006/relationships/hyperlink" Target="http://inside.corp.bearingpoint.com/?nodeid=28705&amp;ContentTypeID=14" TargetMode="External"/><Relationship Id="rId7" Type="http://schemas.openxmlformats.org/officeDocument/2006/relationships/hyperlink" Target="http://inside.corp.bearingpoint.com/?nodeid=28705&amp;ContentTypeID=14" TargetMode="External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172.16.24.33/psoft/fms88/index.htm" TargetMode="External"/><Relationship Id="rId2" Type="http://schemas.openxmlformats.org/officeDocument/2006/relationships/hyperlink" Target="http://172.16.24.33/psoft/fms88/index.htm" TargetMode="External"/><Relationship Id="rId3" Type="http://schemas.openxmlformats.org/officeDocument/2006/relationships/hyperlink" Target="http://172.16.24.33/psoft/fms88/index.htm" TargetMode="External"/><Relationship Id="rId4" Type="http://schemas.openxmlformats.org/officeDocument/2006/relationships/hyperlink" Target="http://172.16.24.33/psoft/fms88/index.htm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avel and Expenses 8.8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cess Flow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6651720"/>
            <a:ext cx="1981080" cy="0"/>
          </a:xfrm>
          <a:prstGeom prst="line">
            <a:avLst/>
          </a:prstGeom>
          <a:ln w="3240">
            <a:solidFill>
              <a:srgbClr val="d0a6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7120" y="6651720"/>
            <a:ext cx="1981080" cy="0"/>
          </a:xfrm>
          <a:prstGeom prst="line">
            <a:avLst/>
          </a:prstGeom>
          <a:ln w="3240">
            <a:solidFill>
              <a:srgbClr val="d0a6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908440" y="6607080"/>
            <a:ext cx="3324240" cy="1270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71400" y="3928680"/>
            <a:ext cx="8080560" cy="25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for PeopleSof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opleSoft Solution Te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06071-C6B3-42F6-BD16-2F4D568915C8}" type="datetime3">
              <a:rPr b="1" lang="en-US" sz="1800" spc="-1" strike="noStrike">
                <a:solidFill>
                  <a:srgbClr val="000000"/>
                </a:solidFill>
                <a:latin typeface="Arial"/>
              </a:rPr>
              <a:t>July 28, 2026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avigate Process Flows Example: Process Flows for Accounts Payabl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240" y="1247760"/>
            <a:ext cx="864540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lick on “Definition for Procurement” to view the Workflow Interpreter (Task: ++PeopleSoft Enterprise). This provides description of the process, tasks included, events initiated, inputs accepted, and outputs delivered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12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306440" y="1608120"/>
            <a:ext cx="6627960" cy="49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mple Process Flows for TE 8.8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Deployment" descr=""/>
          <p:cNvPicPr/>
          <p:nvPr/>
        </p:nvPicPr>
        <p:blipFill>
          <a:blip r:embed="rId1"/>
          <a:stretch/>
        </p:blipFill>
        <p:spPr>
          <a:xfrm>
            <a:off x="1990800" y="1173240"/>
            <a:ext cx="4822920" cy="54007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mple Process Flows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ploy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mple Process Flows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age Expen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Manage%20Expenses" descr=""/>
          <p:cNvPicPr/>
          <p:nvPr/>
        </p:nvPicPr>
        <p:blipFill>
          <a:blip r:embed="rId1"/>
          <a:stretch/>
        </p:blipFill>
        <p:spPr>
          <a:xfrm>
            <a:off x="0" y="1946160"/>
            <a:ext cx="9140760" cy="40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7160" y="447840"/>
            <a:ext cx="661176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mple Process Flows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ate Profi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Create%20Profile" descr=""/>
          <p:cNvPicPr/>
          <p:nvPr/>
        </p:nvPicPr>
        <p:blipFill>
          <a:blip r:embed="rId1"/>
          <a:stretch/>
        </p:blipFill>
        <p:spPr>
          <a:xfrm>
            <a:off x="1711440" y="1171440"/>
            <a:ext cx="53118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240" y="448920"/>
            <a:ext cx="60404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mple Process Flows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ate Employee Info &amp;  Templa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Create%20Employee%20Information%20and%20Templates" descr=""/>
          <p:cNvPicPr/>
          <p:nvPr/>
        </p:nvPicPr>
        <p:blipFill>
          <a:blip r:embed="rId1"/>
          <a:stretch/>
        </p:blipFill>
        <p:spPr>
          <a:xfrm>
            <a:off x="1655640" y="1157400"/>
            <a:ext cx="5613480" cy="54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Request%20Travel%20Authorization-Cash%20Advance" descr=""/>
          <p:cNvPicPr/>
          <p:nvPr/>
        </p:nvPicPr>
        <p:blipFill>
          <a:blip r:embed="rId1"/>
          <a:stretch/>
        </p:blipFill>
        <p:spPr>
          <a:xfrm>
            <a:off x="781200" y="1173240"/>
            <a:ext cx="7597800" cy="53928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240" y="461880"/>
            <a:ext cx="68785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mple Process Flows: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est Travel Authorization/Cash Adv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Request%20Travel%20Authorization-Cash%20Advance%20for%20Employee" descr=""/>
          <p:cNvPicPr/>
          <p:nvPr/>
        </p:nvPicPr>
        <p:blipFill>
          <a:blip r:embed="rId1"/>
          <a:stretch/>
        </p:blipFill>
        <p:spPr>
          <a:xfrm>
            <a:off x="609480" y="1158840"/>
            <a:ext cx="7972560" cy="539424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240" y="461880"/>
            <a:ext cx="77677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mple Process Flows: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est Travel Auth/Cash Adv for Employe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Approve%20Cash%20Advance%20and%20Travel%20Authorization" descr=""/>
          <p:cNvPicPr/>
          <p:nvPr/>
        </p:nvPicPr>
        <p:blipFill>
          <a:blip r:embed="rId1"/>
          <a:stretch/>
        </p:blipFill>
        <p:spPr>
          <a:xfrm>
            <a:off x="1244520" y="1179360"/>
            <a:ext cx="6554880" cy="53928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474480"/>
            <a:ext cx="7221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mple Process Flows: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ve Cash Advance and Travel Authoriz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474480"/>
            <a:ext cx="7221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mple Process Flows: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e for Tra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repare%20for%20Travel" descr=""/>
          <p:cNvPicPr/>
          <p:nvPr/>
        </p:nvPicPr>
        <p:blipFill>
          <a:blip r:embed="rId1"/>
          <a:stretch/>
        </p:blipFill>
        <p:spPr>
          <a:xfrm>
            <a:off x="1682640" y="1162080"/>
            <a:ext cx="576756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h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00160" y="1201320"/>
            <a:ext cx="8680320" cy="19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9"/>
              </a:spcBef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is presentation was prepared by: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illie Babicz, Senior Manager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earingPoint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725 W. Higgins Rd.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hicago, IL  60631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el: +1.773.867.6226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ax: +1.773.714.0399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-mail: millie.babicz@bearingpoint.com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5120" y="4873680"/>
            <a:ext cx="8521920" cy="15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document is protected under the copyright laws of the United States and/or other countries as an unpublished work.. This document contains information that is proprietary and confidential to BearingPoint, Inc. and/or its affiliate(s), or its alliance partners, which shall not be duplicated, used, or disclosed in whole or in part for any purpose other than to evaluate BearingPoint, Inc. and/or its affiliate(s).  Any use or disclosure in whole or in part of this information without the express written permission of BearingPoint, Inc. is prohibit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04 BearingPoint, Inc. and/or its affiliate(s) (Unpublished).  All rights reserved.  Rapid Return on Investment is a component of BearingPoint's ProvenCourse(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SM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 delivery framework; R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 is a registered trademark and R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 Rapid Return on Investment is a service mark of BearingPoint, Inc. and its affiliate(s) in some countries.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ovenCours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SM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BearingPoint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TM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and Business and Systems Aligned. Business Empowered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T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re trademarks or service marks of BearingPoint, Inc. and/or its affiliat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474480"/>
            <a:ext cx="7221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mple Process Flows: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e Expense Re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repare%20Expense%20Report" descr=""/>
          <p:cNvPicPr/>
          <p:nvPr/>
        </p:nvPicPr>
        <p:blipFill>
          <a:blip r:embed="rId1"/>
          <a:stretch/>
        </p:blipFill>
        <p:spPr>
          <a:xfrm>
            <a:off x="3240" y="2562120"/>
            <a:ext cx="914076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474480"/>
            <a:ext cx="7221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mple Process Flows: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e Expense Report for Employe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repare%20Expense%20Reports%20for%20Employee" descr=""/>
          <p:cNvPicPr/>
          <p:nvPr/>
        </p:nvPicPr>
        <p:blipFill>
          <a:blip r:embed="rId1"/>
          <a:stretch/>
        </p:blipFill>
        <p:spPr>
          <a:xfrm>
            <a:off x="0" y="1654200"/>
            <a:ext cx="914076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474480"/>
            <a:ext cx="7221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mple Process Flows: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e Time Repor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repare%20Time%20Reports" descr=""/>
          <p:cNvPicPr/>
          <p:nvPr/>
        </p:nvPicPr>
        <p:blipFill>
          <a:blip r:embed="rId1"/>
          <a:stretch/>
        </p:blipFill>
        <p:spPr>
          <a:xfrm>
            <a:off x="3240" y="2552760"/>
            <a:ext cx="914076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474480"/>
            <a:ext cx="7221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mple Process Flows: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e Time Reports for Employe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repare%20Time%20Reports%20for%20Employee" descr=""/>
          <p:cNvPicPr/>
          <p:nvPr/>
        </p:nvPicPr>
        <p:blipFill>
          <a:blip r:embed="rId1"/>
          <a:stretch/>
        </p:blipFill>
        <p:spPr>
          <a:xfrm>
            <a:off x="3240" y="2282760"/>
            <a:ext cx="9140760" cy="33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474480"/>
            <a:ext cx="7221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mple Process Flows: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 and/or Adjust Expense Contro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repare%20Expense%20Reports%20for%20Employee" descr=""/>
          <p:cNvPicPr/>
          <p:nvPr/>
        </p:nvPicPr>
        <p:blipFill>
          <a:blip r:embed="rId1"/>
          <a:stretch/>
        </p:blipFill>
        <p:spPr>
          <a:xfrm>
            <a:off x="3240" y="1717560"/>
            <a:ext cx="914076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86803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s on how to access Process Flows onl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ep 1: Login To Cisco VP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ep 2: Access The Process Flo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ep 3: Navigate The Process Flo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2960" indent="-228600"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vigate Process Flows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 Process Flows for 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ploy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nage Expen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ate Pro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ate Employee Information and Templ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quest Travel Authorization/Cash Adv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quest Travel Authorization/Cash Advance for Employ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rove Cash Advance and Travel Authoriz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pare for Tra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pare Expense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pare Expense Report for Employ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pare Time Rep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pare Time Reports for Employ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cess and/or Adjust Expense 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tructions on how to access Process Flows onli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86803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his document serves to: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25"/>
              </a:spcBef>
              <a:spcAft>
                <a:spcPts val="275"/>
              </a:spcAft>
              <a:buClr>
                <a:srgbClr val="d0a66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nstruct the user on the access procedure for PeopleSoft FMS 8.8 Process Flows on PeopleSoft Sandbo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25"/>
              </a:spcBef>
              <a:spcAft>
                <a:spcPts val="275"/>
              </a:spcAft>
              <a:buClr>
                <a:srgbClr val="d0a66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rovide sample process flows from PeopleSoft Travel and Expense 8.8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1: Login to Cisco VP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86803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unch VPN Dial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spcBef>
                <a:spcPts val="1125"/>
              </a:spcBef>
              <a:spcAft>
                <a:spcPts val="224"/>
              </a:spcAft>
              <a:buClr>
                <a:srgbClr val="d0a66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 Entry: SVOVPN.bscdev.bearingpoin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spcBef>
                <a:spcPts val="1125"/>
              </a:spcBef>
              <a:spcAft>
                <a:spcPts val="224"/>
              </a:spcAft>
              <a:buClr>
                <a:srgbClr val="d0a66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t name or IP Address of remote server: SVOVPN.bscdev.bearingpoin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spcBef>
                <a:spcPts val="1125"/>
              </a:spcBef>
              <a:spcAft>
                <a:spcPts val="224"/>
              </a:spcAft>
              <a:buClr>
                <a:srgbClr val="d0a66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“Connect” 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spcBef>
                <a:spcPts val="1125"/>
              </a:spcBef>
              <a:spcAft>
                <a:spcPts val="224"/>
              </a:spcAft>
              <a:buClr>
                <a:srgbClr val="d0a66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name: &lt;firstname.lastna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spcBef>
                <a:spcPts val="1125"/>
              </a:spcBef>
              <a:spcAft>
                <a:spcPts val="224"/>
              </a:spcAft>
              <a:buClr>
                <a:srgbClr val="d0a66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word: &lt;your pw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spcBef>
                <a:spcPts val="1125"/>
              </a:spcBef>
              <a:spcAft>
                <a:spcPts val="224"/>
              </a:spcAft>
              <a:buClr>
                <a:srgbClr val="d0a66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ain: bscd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spcBef>
                <a:spcPts val="1125"/>
              </a:spcBef>
              <a:spcAft>
                <a:spcPts val="224"/>
              </a:spcAft>
              <a:buClr>
                <a:srgbClr val="d0a66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“OK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you do not have a BSC Account, go to </a:t>
            </a:r>
            <a:r>
              <a:rPr b="1" lang="en-US" sz="2200" spc="-1" strike="noStrike" u="sng">
                <a:solidFill>
                  <a:srgbClr val="0101ff"/>
                </a:solidFill>
                <a:uFillTx/>
                <a:latin typeface="Arial"/>
                <a:hlinkClick r:id="rId1"/>
              </a:rPr>
              <a:t>http://inside.corp.</a:t>
            </a:r>
            <a:r>
              <a:rPr b="1" lang="en-US" sz="2200" spc="-1" strike="noStrike" u="sng">
                <a:solidFill>
                  <a:srgbClr val="0101ff"/>
                </a:solidFill>
                <a:uFillTx/>
                <a:latin typeface="Arial"/>
                <a:hlinkClick r:id="rId2"/>
              </a:rPr>
              <a:t>bearingpoint</a:t>
            </a:r>
            <a:r>
              <a:rPr b="1" lang="en-US" sz="2200" spc="-1" strike="noStrike" u="sng">
                <a:solidFill>
                  <a:srgbClr val="0101ff"/>
                </a:solidFill>
                <a:uFillTx/>
                <a:latin typeface="Arial"/>
                <a:hlinkClick r:id="rId3"/>
              </a:rPr>
              <a:t>.com/?</a:t>
            </a:r>
            <a:r>
              <a:rPr b="1" lang="en-US" sz="2200" spc="-1" strike="noStrike" u="sng">
                <a:solidFill>
                  <a:srgbClr val="0101ff"/>
                </a:solidFill>
                <a:uFillTx/>
                <a:latin typeface="Arial"/>
                <a:hlinkClick r:id="rId4"/>
              </a:rPr>
              <a:t>nodeid</a:t>
            </a:r>
            <a:r>
              <a:rPr b="1" lang="en-US" sz="2200" spc="-1" strike="noStrike" u="sng">
                <a:solidFill>
                  <a:srgbClr val="0101ff"/>
                </a:solidFill>
                <a:uFillTx/>
                <a:latin typeface="Arial"/>
                <a:hlinkClick r:id="rId5"/>
              </a:rPr>
              <a:t>=28705&amp;</a:t>
            </a:r>
            <a:r>
              <a:rPr b="1" lang="en-US" sz="2200" spc="-1" strike="noStrike" u="sng">
                <a:solidFill>
                  <a:srgbClr val="0101ff"/>
                </a:solidFill>
                <a:uFillTx/>
                <a:latin typeface="Arial"/>
                <a:hlinkClick r:id="rId6"/>
              </a:rPr>
              <a:t>ContentTypeID</a:t>
            </a:r>
            <a:r>
              <a:rPr b="1" lang="en-US" sz="2200" spc="-1" strike="noStrike" u="sng">
                <a:solidFill>
                  <a:srgbClr val="0101ff"/>
                </a:solidFill>
                <a:uFillTx/>
                <a:latin typeface="Arial"/>
                <a:hlinkClick r:id="rId7"/>
              </a:rPr>
              <a:t>=14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to download access procedur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tep 2: Access the Process Flow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247760"/>
            <a:ext cx="864540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process flows can be accessed via </a:t>
            </a:r>
            <a:r>
              <a:rPr b="0" lang="en-US" sz="1800" spc="-1" strike="noStrike" u="sng">
                <a:solidFill>
                  <a:srgbClr val="0101ff"/>
                </a:solidFill>
                <a:uFillTx/>
                <a:latin typeface="Arial"/>
                <a:ea typeface="Times New Roman"/>
                <a:hlinkClick r:id="rId1"/>
              </a:rPr>
              <a:t>http://172.16.24.33/</a:t>
            </a:r>
            <a:r>
              <a:rPr b="0" lang="en-US" sz="1800" spc="-1" strike="noStrike" u="sng">
                <a:solidFill>
                  <a:srgbClr val="0101ff"/>
                </a:solidFill>
                <a:uFillTx/>
                <a:latin typeface="Arial"/>
                <a:ea typeface="Times New Roman"/>
                <a:hlinkClick r:id="rId2"/>
              </a:rPr>
              <a:t>psoft</a:t>
            </a:r>
            <a:r>
              <a:rPr b="0" lang="en-US" sz="1800" spc="-1" strike="noStrike" u="sng">
                <a:solidFill>
                  <a:srgbClr val="0101ff"/>
                </a:solidFill>
                <a:uFillTx/>
                <a:latin typeface="Arial"/>
                <a:ea typeface="Times New Roman"/>
                <a:hlinkClick r:id="rId3"/>
              </a:rPr>
              <a:t>/fms88/index.</a:t>
            </a:r>
            <a:r>
              <a:rPr b="0" lang="en-US" sz="1800" spc="-1" strike="noStrike" u="sng">
                <a:solidFill>
                  <a:srgbClr val="0101ff"/>
                </a:solidFill>
                <a:uFillTx/>
                <a:latin typeface="Arial"/>
                <a:ea typeface="Times New Roman"/>
                <a:hlinkClick r:id="rId4"/>
              </a:rPr>
              <a:t>ht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1305000" y="1612800"/>
            <a:ext cx="6624720" cy="49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tep 3: Navigate the Process Flow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240" y="1247760"/>
            <a:ext cx="872172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lick on the “Process Modeler: ++PeopleSoft Enterprise” hyperlink on the left panel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306440" y="1608120"/>
            <a:ext cx="6627960" cy="49784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143000" y="2870280"/>
            <a:ext cx="2006640" cy="22860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avigate Process Flows Example: Process Flows for Accounts Payabl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247760"/>
            <a:ext cx="864540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lick on “Procurement”, then “Process Modeler: Procurement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306440" y="1608120"/>
            <a:ext cx="6627960" cy="49784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000680" y="4610160"/>
            <a:ext cx="1422360" cy="22860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306440" y="1608120"/>
            <a:ext cx="6635880" cy="4977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avigate Process Flows Example: Process Flows for Accounts Payabl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1247760"/>
            <a:ext cx="864540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 access the next level of process flow, click on “Process Modeler: Settle Supplier Invoice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851360" y="5473800"/>
            <a:ext cx="1854360" cy="21564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00200" y="12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5:43:05Z</dcterms:created>
  <dc:creator>R²i For PeopleSoft</dc:creator>
  <dc:description>&lt;CLIENT NAME&gt;</dc:description>
  <cp:keywords>8.8</cp:keywords>
  <dc:language>en-US</dc:language>
  <cp:lastModifiedBy>Gauri Mohnalkar</cp:lastModifiedBy>
  <dcterms:modified xsi:type="dcterms:W3CDTF">2004-09-20T15:41:41Z</dcterms:modified>
  <cp:revision>235</cp:revision>
  <dc:subject>&lt;PROJECT NAME&gt;</dc:subject>
  <dc:title>Travel and Expense</dc:title>
</cp:coreProperties>
</file>