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1F55349E-F85E-4A86-A947-89EDC745D1CB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 Ledger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D17B-A7E2-42BC-9930-AA707CD18853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GL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%20Journal%20Entri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1880" y="309240"/>
            <a:ext cx="663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Allo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Record%20Allocations" descr=""/>
          <p:cNvPicPr/>
          <p:nvPr/>
        </p:nvPicPr>
        <p:blipFill>
          <a:blip r:embed="rId1"/>
          <a:stretch/>
        </p:blipFill>
        <p:spPr>
          <a:xfrm>
            <a:off x="409680" y="1523880"/>
            <a:ext cx="83246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Edit%20Journal%20Entries" descr=""/>
          <p:cNvPicPr/>
          <p:nvPr/>
        </p:nvPicPr>
        <p:blipFill>
          <a:blip r:embed="rId1"/>
          <a:stretch/>
        </p:blipFill>
        <p:spPr>
          <a:xfrm>
            <a:off x="0" y="353880"/>
            <a:ext cx="9144000" cy="6504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157320"/>
            <a:ext cx="651024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it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 Journal Entry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orrect%20Journal%20Entry%20Errors" descr=""/>
          <p:cNvPicPr/>
          <p:nvPr/>
        </p:nvPicPr>
        <p:blipFill>
          <a:blip r:embed="rId1"/>
          <a:stretch/>
        </p:blipFill>
        <p:spPr>
          <a:xfrm>
            <a:off x="1057320" y="1222200"/>
            <a:ext cx="70293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ummary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reate%20Summary%20Ledgers" descr=""/>
          <p:cNvPicPr/>
          <p:nvPr/>
        </p:nvPicPr>
        <p:blipFill>
          <a:blip r:embed="rId1"/>
          <a:stretch/>
        </p:blipFill>
        <p:spPr>
          <a:xfrm>
            <a:off x="409680" y="1785960"/>
            <a:ext cx="8324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verage Daily Bal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alculate%20Average%20Daily%20Balance" descr=""/>
          <p:cNvPicPr/>
          <p:nvPr/>
        </p:nvPicPr>
        <p:blipFill>
          <a:blip r:embed="rId1"/>
          <a:stretch/>
        </p:blipFill>
        <p:spPr>
          <a:xfrm>
            <a:off x="1096920" y="1193760"/>
            <a:ext cx="69501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510240" cy="9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 Controls: Part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Assess%20and_or%20Adjust%20Budget%20Controls1" descr=""/>
          <p:cNvPicPr/>
          <p:nvPr/>
        </p:nvPicPr>
        <p:blipFill>
          <a:blip r:embed="rId1"/>
          <a:stretch/>
        </p:blipFill>
        <p:spPr>
          <a:xfrm>
            <a:off x="4078440" y="0"/>
            <a:ext cx="506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64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Budget Controls: Part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Assess%20and_or%20Adjust%20Budget%20Controls2" descr=""/>
          <p:cNvPicPr/>
          <p:nvPr/>
        </p:nvPicPr>
        <p:blipFill>
          <a:blip r:embed="rId1"/>
          <a:stretch/>
        </p:blipFill>
        <p:spPr>
          <a:xfrm>
            <a:off x="5595840" y="0"/>
            <a:ext cx="3281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388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 and/or Adjus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 Controls: Part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ssess%20and_or%20Adjust%20Budget%20Controls3" descr=""/>
          <p:cNvPicPr/>
          <p:nvPr/>
        </p:nvPicPr>
        <p:blipFill>
          <a:blip r:embed="rId1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alue Account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value%20Account%20Balances" descr=""/>
          <p:cNvPicPr/>
          <p:nvPr/>
        </p:nvPicPr>
        <p:blipFill>
          <a:blip r:embed="rId1"/>
          <a:stretch/>
        </p:blipFill>
        <p:spPr>
          <a:xfrm>
            <a:off x="409680" y="2009880"/>
            <a:ext cx="832464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510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 Financial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Transform%20Financial%20Information" descr=""/>
          <p:cNvPicPr/>
          <p:nvPr/>
        </p:nvPicPr>
        <p:blipFill>
          <a:blip r:embed="rId1"/>
          <a:stretch/>
        </p:blipFill>
        <p:spPr>
          <a:xfrm>
            <a:off x="2152800" y="376200"/>
            <a:ext cx="483840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late Multi-Currency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Translate%20Multi-Currency%20Balances" descr=""/>
          <p:cNvPicPr/>
          <p:nvPr/>
        </p:nvPicPr>
        <p:blipFill>
          <a:blip r:embed="rId1"/>
          <a:stretch/>
        </p:blipFill>
        <p:spPr>
          <a:xfrm>
            <a:off x="219240" y="1395360"/>
            <a:ext cx="8705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ve Journals and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Archive%20Journals%20and%20Ledgers" descr=""/>
          <p:cNvPicPr/>
          <p:nvPr/>
        </p:nvPicPr>
        <p:blipFill>
          <a:blip r:embed="rId1"/>
          <a:stretch/>
        </p:blipFill>
        <p:spPr>
          <a:xfrm>
            <a:off x="793800" y="1617840"/>
            <a:ext cx="75549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Capture%20Transactions" descr=""/>
          <p:cNvPicPr/>
          <p:nvPr/>
        </p:nvPicPr>
        <p:blipFill>
          <a:blip r:embed="rId1"/>
          <a:stretch/>
        </p:blipFill>
        <p:spPr>
          <a:xfrm>
            <a:off x="1189080" y="1228680"/>
            <a:ext cx="67658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6821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olidate Financial Information for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solidate%20Financial%20Information%20for%20Reporting" descr=""/>
          <p:cNvPicPr/>
          <p:nvPr/>
        </p:nvPicPr>
        <p:blipFill>
          <a:blip r:embed="rId1"/>
          <a:stretch/>
        </p:blipFill>
        <p:spPr>
          <a:xfrm>
            <a:off x="0" y="374760"/>
            <a:ext cx="91440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cial Control and Repor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Financial%20Control%20and%20Reporting" descr=""/>
          <p:cNvPicPr/>
          <p:nvPr/>
        </p:nvPicPr>
        <p:blipFill>
          <a:blip r:embed="rId1"/>
          <a:stretch/>
        </p:blipFill>
        <p:spPr>
          <a:xfrm>
            <a:off x="1085760" y="1405080"/>
            <a:ext cx="69724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Financial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repare%20Financial%20Reports" descr=""/>
          <p:cNvPicPr/>
          <p:nvPr/>
        </p:nvPicPr>
        <p:blipFill>
          <a:blip r:embed="rId1"/>
          <a:stretch/>
        </p:blipFill>
        <p:spPr>
          <a:xfrm>
            <a:off x="393840" y="2057400"/>
            <a:ext cx="8354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t Journal Entries and Update Ledger Balan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ost%20Journal%20Entries%20and%20Update%20Ledger%20Balances" descr=""/>
          <p:cNvPicPr/>
          <p:nvPr/>
        </p:nvPicPr>
        <p:blipFill>
          <a:blip r:embed="rId1"/>
          <a:stretch/>
        </p:blipFill>
        <p:spPr>
          <a:xfrm>
            <a:off x="503280" y="1486080"/>
            <a:ext cx="8137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760" y="1260000"/>
            <a:ext cx="8642160" cy="493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G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 Al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t Journal E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rrect Journal Entry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ate Summary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culate Average Daily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/or Adjust Budget Controls: Pa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and/or Adjust Budget Controls: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ss and/or Adjust Budget Controls: Par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alue Account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form Financial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late Multi-Currency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ive Journals and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olidate Financial Information for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ial Control and Re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Financial Re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st Journal Entries and Update Ledger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e Led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ose Ledg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Close%20Ledger" descr=""/>
          <p:cNvPicPr/>
          <p:nvPr/>
        </p:nvPicPr>
        <p:blipFill>
          <a:blip r:embed="rId1"/>
          <a:stretch/>
        </p:blipFill>
        <p:spPr>
          <a:xfrm>
            <a:off x="1004760" y="1204920"/>
            <a:ext cx="71326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General Ledger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29:49Z</dcterms:modified>
  <cp:revision>213</cp:revision>
  <dc:subject>&lt;PROJECT NAME&gt;</dc:subject>
  <dc:title>General Ledger</dc:title>
</cp:coreProperties>
</file>