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7FBB7869-DC1A-4CD5-962F-FACDFB4036A1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hyperlink" Target="http://inside.corp.bearingpoint.com/?nodeid=28705&amp;ContentTypeID=14" TargetMode="External"/><Relationship Id="rId7" Type="http://schemas.openxmlformats.org/officeDocument/2006/relationships/hyperlink" Target="http://inside.corp.bearingpoint.com/?nodeid=28705&amp;ContentTypeID=14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vel and Expenses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9B2-B24A-4E8B-977E-F98A762B9656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TE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eployment" descr=""/>
          <p:cNvPicPr/>
          <p:nvPr/>
        </p:nvPicPr>
        <p:blipFill>
          <a:blip r:embed="rId1"/>
          <a:stretch/>
        </p:blipFill>
        <p:spPr>
          <a:xfrm>
            <a:off x="1990800" y="1173240"/>
            <a:ext cx="4822920" cy="5400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Expen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Manage%20Expenses" descr=""/>
          <p:cNvPicPr/>
          <p:nvPr/>
        </p:nvPicPr>
        <p:blipFill>
          <a:blip r:embed="rId1"/>
          <a:stretch/>
        </p:blipFill>
        <p:spPr>
          <a:xfrm>
            <a:off x="0" y="1946160"/>
            <a:ext cx="91407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160" y="447840"/>
            <a:ext cx="6611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Pro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reate%20Profile" descr=""/>
          <p:cNvPicPr/>
          <p:nvPr/>
        </p:nvPicPr>
        <p:blipFill>
          <a:blip r:embed="rId1"/>
          <a:stretch/>
        </p:blipFill>
        <p:spPr>
          <a:xfrm>
            <a:off x="1711440" y="1171440"/>
            <a:ext cx="53118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448920"/>
            <a:ext cx="60404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Employee Info &amp; 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reate%20Employee%20Information%20and%20Templates" descr=""/>
          <p:cNvPicPr/>
          <p:nvPr/>
        </p:nvPicPr>
        <p:blipFill>
          <a:blip r:embed="rId1"/>
          <a:stretch/>
        </p:blipFill>
        <p:spPr>
          <a:xfrm>
            <a:off x="1655640" y="1157400"/>
            <a:ext cx="56134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quest%20Travel%20Authorization-Cash%20Advance" descr=""/>
          <p:cNvPicPr/>
          <p:nvPr/>
        </p:nvPicPr>
        <p:blipFill>
          <a:blip r:embed="rId1"/>
          <a:stretch/>
        </p:blipFill>
        <p:spPr>
          <a:xfrm>
            <a:off x="781200" y="1173240"/>
            <a:ext cx="7597800" cy="5392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461880"/>
            <a:ext cx="6878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Travel Authorization/Cash Adv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quest%20Travel%20Authorization-Cash%20Advance%20for%20Employee" descr=""/>
          <p:cNvPicPr/>
          <p:nvPr/>
        </p:nvPicPr>
        <p:blipFill>
          <a:blip r:embed="rId1"/>
          <a:stretch/>
        </p:blipFill>
        <p:spPr>
          <a:xfrm>
            <a:off x="609480" y="1158840"/>
            <a:ext cx="7972560" cy="5394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61880"/>
            <a:ext cx="77677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Travel Auth/Cash Adv for Employ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Approve%20Cash%20Advance%20and%20Travel%20Authorization" descr=""/>
          <p:cNvPicPr/>
          <p:nvPr/>
        </p:nvPicPr>
        <p:blipFill>
          <a:blip r:embed="rId1"/>
          <a:stretch/>
        </p:blipFill>
        <p:spPr>
          <a:xfrm>
            <a:off x="1244520" y="1179360"/>
            <a:ext cx="6554880" cy="5392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 Cash Advance and Travel Author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for Tra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repare%20for%20Travel" descr=""/>
          <p:cNvPicPr/>
          <p:nvPr/>
        </p:nvPicPr>
        <p:blipFill>
          <a:blip r:embed="rId1"/>
          <a:stretch/>
        </p:blipFill>
        <p:spPr>
          <a:xfrm>
            <a:off x="1682640" y="1162080"/>
            <a:ext cx="57675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Expense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repare%20Expense%20Report" descr=""/>
          <p:cNvPicPr/>
          <p:nvPr/>
        </p:nvPicPr>
        <p:blipFill>
          <a:blip r:embed="rId1"/>
          <a:stretch/>
        </p:blipFill>
        <p:spPr>
          <a:xfrm>
            <a:off x="3240" y="2562120"/>
            <a:ext cx="91407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Expense Report for Employ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repare%20Expense%20Reports%20for%20Employee" descr=""/>
          <p:cNvPicPr/>
          <p:nvPr/>
        </p:nvPicPr>
        <p:blipFill>
          <a:blip r:embed="rId1"/>
          <a:stretch/>
        </p:blipFill>
        <p:spPr>
          <a:xfrm>
            <a:off x="0" y="1654200"/>
            <a:ext cx="91407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ime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repare%20Time%20Reports" descr=""/>
          <p:cNvPicPr/>
          <p:nvPr/>
        </p:nvPicPr>
        <p:blipFill>
          <a:blip r:embed="rId1"/>
          <a:stretch/>
        </p:blipFill>
        <p:spPr>
          <a:xfrm>
            <a:off x="3240" y="2552760"/>
            <a:ext cx="91407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ime Reports for Employ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repare%20Time%20Reports%20for%20Employee" descr=""/>
          <p:cNvPicPr/>
          <p:nvPr/>
        </p:nvPicPr>
        <p:blipFill>
          <a:blip r:embed="rId1"/>
          <a:stretch/>
        </p:blipFill>
        <p:spPr>
          <a:xfrm>
            <a:off x="3240" y="2282760"/>
            <a:ext cx="914076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and/or Adjust Expen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repare%20Expense%20Reports%20for%20Employee" descr=""/>
          <p:cNvPicPr/>
          <p:nvPr/>
        </p:nvPicPr>
        <p:blipFill>
          <a:blip r:embed="rId1"/>
          <a:stretch/>
        </p:blipFill>
        <p:spPr>
          <a:xfrm>
            <a:off x="3240" y="1717560"/>
            <a:ext cx="91407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ocess Flows for 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 Expe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e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e Employee Information and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 Travel Authorization/Cash Adv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 Travel Authorization/Cash Advance for 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ove Cash Advance and Travel Author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for Tra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Expens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Expense Report for 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Time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Time Reports for 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and/or Adjust Expens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Travel and Expense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bearingpoint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6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7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auri Mohnalkar</cp:lastModifiedBy>
  <dcterms:modified xsi:type="dcterms:W3CDTF">2004-09-20T15:41:41Z</dcterms:modified>
  <cp:revision>235</cp:revision>
  <dc:subject>&lt;PROJECT NAME&gt;</dc:subject>
  <dc:title>Travel and Expense</dc:title>
</cp:coreProperties>
</file>