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6868BDA4-9EE6-4032-AAF0-AFAAF6141704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lling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FAE-19C7-470C-A19F-AFBAE8F76D49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BI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nvoice%20Customer" descr=""/>
          <p:cNvPicPr/>
          <p:nvPr/>
        </p:nvPicPr>
        <p:blipFill>
          <a:blip r:embed="rId1"/>
          <a:stretch/>
        </p:blipFill>
        <p:spPr>
          <a:xfrm>
            <a:off x="2562120" y="622440"/>
            <a:ext cx="4159440" cy="59482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ice Custo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RMA Adjus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Create%20RMA%20Adjustments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07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illing Options for Recurring, Consolidated or Installment Bi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reate%20Billing%20Options%20for%20Recurring,%20Consolidated%20or%20Installment%20Bills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0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eive%20and%20Validate%20Bill%20Information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61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32240" y="34308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and Validate Bill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Bill Info Manually (One-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reate%20Bill%20Information%20Manually" descr=""/>
          <p:cNvPicPr/>
          <p:nvPr/>
        </p:nvPicPr>
        <p:blipFill>
          <a:blip r:embed="rId1"/>
          <a:stretch/>
        </p:blipFill>
        <p:spPr>
          <a:xfrm>
            <a:off x="3240" y="1952640"/>
            <a:ext cx="91407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448920"/>
            <a:ext cx="7094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int and/or Make Billing 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print%20and-or%20Make%20Billing%20Adjustments" descr=""/>
          <p:cNvPicPr/>
          <p:nvPr/>
        </p:nvPicPr>
        <p:blipFill>
          <a:blip r:embed="rId1"/>
          <a:stretch/>
        </p:blipFill>
        <p:spPr>
          <a:xfrm>
            <a:off x="0" y="1587600"/>
            <a:ext cx="91407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ze and Print Customer In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Finalize%20and%20Print%20Customer%20Invoice" descr=""/>
          <p:cNvPicPr/>
          <p:nvPr/>
        </p:nvPicPr>
        <p:blipFill>
          <a:blip r:embed="rId1"/>
          <a:stretch/>
        </p:blipFill>
        <p:spPr>
          <a:xfrm>
            <a:off x="15840" y="1940040"/>
            <a:ext cx="91407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Invoice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cord%20Invoice%20Activity" descr=""/>
          <p:cNvPicPr/>
          <p:nvPr/>
        </p:nvPicPr>
        <p:blipFill>
          <a:blip r:embed="rId1"/>
          <a:stretch/>
        </p:blipFill>
        <p:spPr>
          <a:xfrm>
            <a:off x="636480" y="1174680"/>
            <a:ext cx="77882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B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ice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RMA Adju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lling Options for Recurring, Consolidated or Installment B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 and Validate Bil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ll Information Manually (One-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nt and/or Make Billing Adju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ize and Print Customer 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 Invoic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Billing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17T22:14:45Z</dcterms:modified>
  <cp:revision>206</cp:revision>
  <dc:subject>&lt;PROJECT NAME&gt;</dc:subject>
  <dc:title>Billing</dc:title>
</cp:coreProperties>
</file>