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12705"/>
          <a:stretch/>
        </p:blipFill>
        <p:spPr>
          <a:xfrm>
            <a:off x="7077240" y="455760"/>
            <a:ext cx="1755720" cy="698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28600"/>
            <a:ext cx="670572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1920" y="6602400"/>
            <a:ext cx="1166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4 BearingPoint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727360" y="6536520"/>
            <a:ext cx="615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for PeopleSoft 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PeopleSoft Solution Team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d0a660"/>
                </a:solidFill>
                <a:latin typeface="Arial"/>
              </a:rPr>
              <a:t> </a:t>
            </a:r>
            <a:fld id="{225018DA-C2EA-4979-83E4-A86A67B32EC3}" type="slidenum">
              <a:rPr b="0" lang="en-US" sz="1000" spc="-1" strike="noStrike">
                <a:solidFill>
                  <a:srgbClr val="d0a66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14088"/>
          <a:stretch/>
        </p:blipFill>
        <p:spPr>
          <a:xfrm>
            <a:off x="6573960" y="546120"/>
            <a:ext cx="1714320" cy="671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9760" indent="0" algn="ctr"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1001"/>
              </a:spcBef>
              <a:spcAft>
                <a:spcPts val="201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nside.corp.bearingpoint.com/?nodeid=28705&amp;ContentTypeID=14" TargetMode="External"/><Relationship Id="rId2" Type="http://schemas.openxmlformats.org/officeDocument/2006/relationships/hyperlink" Target="http://inside.corp.bearingpoint.com/?nodeid=28705&amp;ContentTypeID=14" TargetMode="External"/><Relationship Id="rId3" Type="http://schemas.openxmlformats.org/officeDocument/2006/relationships/hyperlink" Target="http://inside.corp.bearingpoint.com/?nodeid=28705&amp;ContentTypeID=14" TargetMode="External"/><Relationship Id="rId4" Type="http://schemas.openxmlformats.org/officeDocument/2006/relationships/hyperlink" Target="http://inside.corp.bearingpoint.com/?nodeid=28705&amp;ContentTypeID=14" TargetMode="External"/><Relationship Id="rId5" Type="http://schemas.openxmlformats.org/officeDocument/2006/relationships/hyperlink" Target="http://inside.corp.bearingpoint.com/?nodeid=28705&amp;ContentTypeID=14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172.16.24.33/psoft/fms88/index.htm" TargetMode="External"/><Relationship Id="rId2" Type="http://schemas.openxmlformats.org/officeDocument/2006/relationships/hyperlink" Target="http://172.16.24.33/psoft/fms88/index.htm" TargetMode="External"/><Relationship Id="rId3" Type="http://schemas.openxmlformats.org/officeDocument/2006/relationships/hyperlink" Target="http://172.16.24.33/psoft/fms88/index.htm" TargetMode="External"/><Relationship Id="rId4" Type="http://schemas.openxmlformats.org/officeDocument/2006/relationships/hyperlink" Target="http://172.16.24.33/psoft/fms88/index.htm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Ledger 8.8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Fl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08440" y="6607080"/>
            <a:ext cx="3324240" cy="127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71400" y="3928680"/>
            <a:ext cx="808056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for PeopleSo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Soft Solution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6AE2-3701-42F6-AC6C-562EE753E313}" type="datetime3">
              <a:rPr b="1" lang="en-US" sz="1800" spc="-1" strike="noStrike">
                <a:solidFill>
                  <a:srgbClr val="000000"/>
                </a:solidFill>
                <a:latin typeface="Arial"/>
              </a:rPr>
              <a:t>July 31, 2026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Definition for Procurement” to view the Workflow Interpreter (Task: ++PeopleSoft Enterprise). This provides description of the process, tasks included, events initiated, inputs accepted, and outputs delivered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e Process Flows for GL 8.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ord%20Journal%20Entri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33760" y="0"/>
            <a:ext cx="65102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 Journal Ent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1880" y="309240"/>
            <a:ext cx="66373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 Allo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Record%20Allocations" descr=""/>
          <p:cNvPicPr/>
          <p:nvPr/>
        </p:nvPicPr>
        <p:blipFill>
          <a:blip r:embed="rId1"/>
          <a:stretch/>
        </p:blipFill>
        <p:spPr>
          <a:xfrm>
            <a:off x="409680" y="1523880"/>
            <a:ext cx="8324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Edit%20Journal%20Entries" descr=""/>
          <p:cNvPicPr/>
          <p:nvPr/>
        </p:nvPicPr>
        <p:blipFill>
          <a:blip r:embed="rId1"/>
          <a:stretch/>
        </p:blipFill>
        <p:spPr>
          <a:xfrm>
            <a:off x="0" y="353880"/>
            <a:ext cx="9144000" cy="65041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57320"/>
            <a:ext cx="65102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it Journal Ent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ct Journal Entry Err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Correct%20Journal%20Entry%20Errors" descr=""/>
          <p:cNvPicPr/>
          <p:nvPr/>
        </p:nvPicPr>
        <p:blipFill>
          <a:blip r:embed="rId1"/>
          <a:stretch/>
        </p:blipFill>
        <p:spPr>
          <a:xfrm>
            <a:off x="1057320" y="1222200"/>
            <a:ext cx="702936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Summary Ledg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Create%20Summary%20Ledgers" descr=""/>
          <p:cNvPicPr/>
          <p:nvPr/>
        </p:nvPicPr>
        <p:blipFill>
          <a:blip r:embed="rId1"/>
          <a:stretch/>
        </p:blipFill>
        <p:spPr>
          <a:xfrm>
            <a:off x="409680" y="1785960"/>
            <a:ext cx="83246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Average Daily Bal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Calculate%20Average%20Daily%20Balance" descr=""/>
          <p:cNvPicPr/>
          <p:nvPr/>
        </p:nvPicPr>
        <p:blipFill>
          <a:blip r:embed="rId1"/>
          <a:stretch/>
        </p:blipFill>
        <p:spPr>
          <a:xfrm>
            <a:off x="1096920" y="1193760"/>
            <a:ext cx="695016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51024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ess and/or Adjus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dget Controls: Part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Assess%20and_or%20Adjust%20Budget%20Controls1" descr=""/>
          <p:cNvPicPr/>
          <p:nvPr/>
        </p:nvPicPr>
        <p:blipFill>
          <a:blip r:embed="rId1"/>
          <a:stretch/>
        </p:blipFill>
        <p:spPr>
          <a:xfrm>
            <a:off x="4078440" y="0"/>
            <a:ext cx="506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64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ess and/or Adjust Budget Controls: Part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Assess%20and_or%20Adjust%20Budget%20Controls2" descr=""/>
          <p:cNvPicPr/>
          <p:nvPr/>
        </p:nvPicPr>
        <p:blipFill>
          <a:blip r:embed="rId1"/>
          <a:stretch/>
        </p:blipFill>
        <p:spPr>
          <a:xfrm>
            <a:off x="5595840" y="0"/>
            <a:ext cx="328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0160" y="1201320"/>
            <a:ext cx="868032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9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presentation was prepared by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lie Babicz, Senior Manag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aringPoi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725 W. Higgins Rd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icago, IL  6063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l: +1.773.867.622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ax: +1.773.714.0399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-mail: millie.babicz@bearingpoint.co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4873680"/>
            <a:ext cx="85219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document is protected under the copyright laws of the United States and/or other countries as an unpublished work.. This document contains information that is proprietary and confidential to BearingPoint, Inc. and/or its affiliate(s), or its alliance partners, which shall not be duplicated, used, or disclosed in whole or in part for any purpose other than to evaluate BearingPoint, Inc. and/or its affiliate(s).  Any use or disclosure in whole or in part of this information without the express written permission of BearingPoint, Inc. is prohibi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BearingPoint, Inc. and/or its affiliate(s) (Unpublished).  All rights reserved.  Rapid Return on Investment is a component of BearingPoint's ProvenCourse(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delivery framework;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is a registered trademark and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Rapid Return on Investment is a service mark of BearingPoint, Inc. and its affiliate(s) in some countries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venCours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BearingPoin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Business and Systems Aligned. Business Empowere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re trademarks or service marks of BearingPoint, Inc. and/or its affilia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7388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ess and/or Adjus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dget Controls: Part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Assess%20and_or%20Adjust%20Budget%20Controls3" descr=""/>
          <p:cNvPicPr/>
          <p:nvPr/>
        </p:nvPicPr>
        <p:blipFill>
          <a:blip r:embed="rId1"/>
          <a:stretch/>
        </p:blipFill>
        <p:spPr>
          <a:xfrm>
            <a:off x="4156200" y="0"/>
            <a:ext cx="498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alue Account Bal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Revalue%20Account%20Balances" descr=""/>
          <p:cNvPicPr/>
          <p:nvPr/>
        </p:nvPicPr>
        <p:blipFill>
          <a:blip r:embed="rId1"/>
          <a:stretch/>
        </p:blipFill>
        <p:spPr>
          <a:xfrm>
            <a:off x="409680" y="2009880"/>
            <a:ext cx="83246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5102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form Financial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Transform%20Financial%20Information" descr=""/>
          <p:cNvPicPr/>
          <p:nvPr/>
        </p:nvPicPr>
        <p:blipFill>
          <a:blip r:embed="rId1"/>
          <a:stretch/>
        </p:blipFill>
        <p:spPr>
          <a:xfrm>
            <a:off x="2152800" y="376200"/>
            <a:ext cx="483840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late Multi-Currency Bal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Translate%20Multi-Currency%20Balances" descr=""/>
          <p:cNvPicPr/>
          <p:nvPr/>
        </p:nvPicPr>
        <p:blipFill>
          <a:blip r:embed="rId1"/>
          <a:stretch/>
        </p:blipFill>
        <p:spPr>
          <a:xfrm>
            <a:off x="219240" y="1395360"/>
            <a:ext cx="870552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ve Journals and Ledg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Archive%20Journals%20and%20Ledgers" descr=""/>
          <p:cNvPicPr/>
          <p:nvPr/>
        </p:nvPicPr>
        <p:blipFill>
          <a:blip r:embed="rId1"/>
          <a:stretch/>
        </p:blipFill>
        <p:spPr>
          <a:xfrm>
            <a:off x="793800" y="1617840"/>
            <a:ext cx="7554960" cy="36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ture Transa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Capture%20Transactions" descr=""/>
          <p:cNvPicPr/>
          <p:nvPr/>
        </p:nvPicPr>
        <p:blipFill>
          <a:blip r:embed="rId1"/>
          <a:stretch/>
        </p:blipFill>
        <p:spPr>
          <a:xfrm>
            <a:off x="1189080" y="1228680"/>
            <a:ext cx="67658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8212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olidate Financial Information for Repor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solidate%20Financial%20Information%20for%20Reporting" descr=""/>
          <p:cNvPicPr/>
          <p:nvPr/>
        </p:nvPicPr>
        <p:blipFill>
          <a:blip r:embed="rId1"/>
          <a:stretch/>
        </p:blipFill>
        <p:spPr>
          <a:xfrm>
            <a:off x="0" y="374760"/>
            <a:ext cx="914400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ncial Control and Repor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Financial%20Control%20and%20Reporting" descr=""/>
          <p:cNvPicPr/>
          <p:nvPr/>
        </p:nvPicPr>
        <p:blipFill>
          <a:blip r:embed="rId1"/>
          <a:stretch/>
        </p:blipFill>
        <p:spPr>
          <a:xfrm>
            <a:off x="1085760" y="1405080"/>
            <a:ext cx="697248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 Financial Repo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repare%20Financial%20Reports" descr=""/>
          <p:cNvPicPr/>
          <p:nvPr/>
        </p:nvPicPr>
        <p:blipFill>
          <a:blip r:embed="rId1"/>
          <a:stretch/>
        </p:blipFill>
        <p:spPr>
          <a:xfrm>
            <a:off x="393840" y="2057400"/>
            <a:ext cx="8354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 Journal Entries and Update Ledger Bal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ost%20Journal%20Entries%20and%20Update%20Ledger%20Balances" descr=""/>
          <p:cNvPicPr/>
          <p:nvPr/>
        </p:nvPicPr>
        <p:blipFill>
          <a:blip r:embed="rId1"/>
          <a:stretch/>
        </p:blipFill>
        <p:spPr>
          <a:xfrm>
            <a:off x="503280" y="1486080"/>
            <a:ext cx="8137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6760" y="1260000"/>
            <a:ext cx="86421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2: Access The Process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3: Navigate The Process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vigate Process Flows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Process Flows for G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ord Journal E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ord Al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it Journal E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rrect Journal Entry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te Summary Led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culate Average Daily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es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/or Adjust Budget Controls: Par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ess and/or Adjust Budget Controls: Pa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ess and/or Adjust Budget Controls: Par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alue Account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form Financial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late Multi-Currency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chive Journals and Led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ture Trans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olidate Financial Information for Re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ial Control and Re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e Financial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t Journal Entries and Update Ledger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se Led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ose Ledg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Close%20Ledger" descr=""/>
          <p:cNvPicPr/>
          <p:nvPr/>
        </p:nvPicPr>
        <p:blipFill>
          <a:blip r:embed="rId1"/>
          <a:stretch/>
        </p:blipFill>
        <p:spPr>
          <a:xfrm>
            <a:off x="1004760" y="1204920"/>
            <a:ext cx="713268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document serves to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 the user on the access procedure for PeopleSoft FMS 8.8 Process Flows on PeopleSoft Sandbo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sample process flows from PeopleSoft General Ledger 8.8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unch VPN Dial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ntry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name or IP Address of remote server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“Connect”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name: &lt;firstname.last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: &lt;your pw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: bsc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O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not have a BSC Account, go to 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1"/>
              </a:rPr>
              <a:t>http://inside.corp.bearingpoint.com/?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2"/>
              </a:rPr>
              <a:t>nod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3"/>
              </a:rPr>
              <a:t>=28705&amp;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4"/>
              </a:rPr>
              <a:t>ContentTyp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5"/>
              </a:rPr>
              <a:t>=1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download access proced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2: Access the Process Flow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ocess flows can be accessed via 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1"/>
              </a:rPr>
              <a:t>http://172.16.24.33/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2"/>
              </a:rPr>
              <a:t>psoft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3"/>
              </a:rPr>
              <a:t>/fms88/index.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4"/>
              </a:rPr>
              <a:t>ht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305000" y="1612800"/>
            <a:ext cx="66247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3: Navigate the Process Flow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721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the “Process Modeler: ++PeopleSoft Enterprise” hyperlink on the left pane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2870280"/>
            <a:ext cx="200664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Procurement”, then “Process Modeler: Procuremen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0680" y="4610160"/>
            <a:ext cx="142236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35880" cy="4977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access the next level of process flow, click on “Process Modeler: Settle Supplier Invoice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1360" y="5473800"/>
            <a:ext cx="1854360" cy="2156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5:43:05Z</dcterms:created>
  <dc:creator>R²i For PeopleSoft</dc:creator>
  <dc:description>&lt;CLIENT NAME&gt;</dc:description>
  <cp:keywords>8.8</cp:keywords>
  <dc:language>en-US</dc:language>
  <cp:lastModifiedBy>Grace Mierwa</cp:lastModifiedBy>
  <dcterms:modified xsi:type="dcterms:W3CDTF">2004-09-20T16:29:49Z</dcterms:modified>
  <cp:revision>213</cp:revision>
  <dc:subject>&lt;PROJECT NAME&gt;</dc:subject>
  <dc:title>General Ledger</dc:title>
</cp:coreProperties>
</file>