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332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804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332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804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48920"/>
            <a:ext cx="6510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332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804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332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804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48920"/>
            <a:ext cx="6510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12705"/>
          <a:stretch/>
        </p:blipFill>
        <p:spPr>
          <a:xfrm>
            <a:off x="7077240" y="455760"/>
            <a:ext cx="1755720" cy="698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75000"/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28600"/>
            <a:ext cx="670572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1920" y="6602400"/>
            <a:ext cx="1166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4 BearingPoint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727360" y="6536520"/>
            <a:ext cx="615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for PeopleSoft </a:t>
            </a:r>
            <a:r>
              <a:rPr b="0" lang="en-US" sz="1000" spc="-1" strike="noStrike">
                <a:solidFill>
                  <a:srgbClr val="d0a6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000" spc="-1" strike="noStrike">
                <a:solidFill>
                  <a:srgbClr val="d0a6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PeopleSoft Solution Team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d0a660"/>
                </a:solidFill>
                <a:latin typeface="Arial"/>
              </a:rPr>
              <a:t> </a:t>
            </a:r>
            <a:fld id="{D68A15BA-7ECC-4FFF-B0F9-53911D9A6714}" type="slidenum">
              <a:rPr b="0" lang="en-US" sz="1000" spc="-1" strike="noStrike">
                <a:solidFill>
                  <a:srgbClr val="d0a66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14088"/>
          <a:stretch/>
        </p:blipFill>
        <p:spPr>
          <a:xfrm>
            <a:off x="6573960" y="546120"/>
            <a:ext cx="1714320" cy="671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9760" indent="0" algn="ctr"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4360" algn="ctr">
              <a:spcBef>
                <a:spcPts val="1001"/>
              </a:spcBef>
              <a:spcAft>
                <a:spcPts val="201"/>
              </a:spcAft>
              <a:buClr>
                <a:srgbClr val="d0a660"/>
              </a:buClr>
              <a:buSzPct val="75000"/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nside.corp.bearingpoint.com/?nodeid=28705&amp;ContentTypeID=14" TargetMode="External"/><Relationship Id="rId2" Type="http://schemas.openxmlformats.org/officeDocument/2006/relationships/hyperlink" Target="http://inside.corp.bearingpoint.com/?nodeid=28705&amp;ContentTypeID=14" TargetMode="External"/><Relationship Id="rId3" Type="http://schemas.openxmlformats.org/officeDocument/2006/relationships/hyperlink" Target="http://inside.corp.bearingpoint.com/?nodeid=28705&amp;ContentTypeID=14" TargetMode="External"/><Relationship Id="rId4" Type="http://schemas.openxmlformats.org/officeDocument/2006/relationships/hyperlink" Target="http://inside.corp.bearingpoint.com/?nodeid=28705&amp;ContentTypeID=14" TargetMode="External"/><Relationship Id="rId5" Type="http://schemas.openxmlformats.org/officeDocument/2006/relationships/hyperlink" Target="http://inside.corp.bearingpoint.com/?nodeid=28705&amp;ContentTypeID=14" TargetMode="External"/><Relationship Id="rId6" Type="http://schemas.openxmlformats.org/officeDocument/2006/relationships/hyperlink" Target="http://inside.corp.bearingpoint.com/?nodeid=28705&amp;ContentTypeID=14" TargetMode="External"/><Relationship Id="rId7" Type="http://schemas.openxmlformats.org/officeDocument/2006/relationships/hyperlink" Target="http://inside.corp.bearingpoint.com/?nodeid=28705&amp;ContentTypeID=14" TargetMode="Externa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172.16.24.33/psoft/fms88/index.htm" TargetMode="External"/><Relationship Id="rId2" Type="http://schemas.openxmlformats.org/officeDocument/2006/relationships/hyperlink" Target="http://172.16.24.33/psoft/fms88/index.htm" TargetMode="External"/><Relationship Id="rId3" Type="http://schemas.openxmlformats.org/officeDocument/2006/relationships/hyperlink" Target="http://172.16.24.33/psoft/fms88/index.htm" TargetMode="External"/><Relationship Id="rId4" Type="http://schemas.openxmlformats.org/officeDocument/2006/relationships/hyperlink" Target="http://172.16.24.33/psoft/fms88/index.htm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racts 8.8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Flo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6517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66517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08440" y="6607080"/>
            <a:ext cx="3324240" cy="127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71400" y="3928680"/>
            <a:ext cx="808056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for PeopleSo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Soft Solution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7B14-B95B-441C-918D-0CFCFCA51FD0}" type="datetime3">
              <a:rPr b="1" lang="en-US" sz="18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“Definition for Procurement” to view the Workflow Interpreter (Task: ++PeopleSoft Enterprise). This provides description of the process, tasks included, events initiated, inputs accepted, and outputs delivered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ple Process Flows for CA 8.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reate Sales Contr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Create%20Sales%20Contract" descr=""/>
          <p:cNvPicPr/>
          <p:nvPr/>
        </p:nvPicPr>
        <p:blipFill>
          <a:blip r:embed="rId1"/>
          <a:stretch/>
        </p:blipFill>
        <p:spPr>
          <a:xfrm>
            <a:off x="1782720" y="2068560"/>
            <a:ext cx="557856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7160" y="447840"/>
            <a:ext cx="66117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Terms and Cond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Define%20Terms%20and%20Conditions" descr=""/>
          <p:cNvPicPr/>
          <p:nvPr/>
        </p:nvPicPr>
        <p:blipFill>
          <a:blip r:embed="rId1"/>
          <a:stretch/>
        </p:blipFill>
        <p:spPr>
          <a:xfrm>
            <a:off x="446040" y="1604880"/>
            <a:ext cx="825192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62676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ture Contract Pric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Capture%20Contract%20Pricing" descr=""/>
          <p:cNvPicPr/>
          <p:nvPr/>
        </p:nvPicPr>
        <p:blipFill>
          <a:blip r:embed="rId1"/>
          <a:stretch/>
        </p:blipFill>
        <p:spPr>
          <a:xfrm>
            <a:off x="3240" y="2263680"/>
            <a:ext cx="914076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62676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ntract Milestones and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Define%20Contract%20Milestones%20and%20Plans" descr=""/>
          <p:cNvPicPr/>
          <p:nvPr/>
        </p:nvPicPr>
        <p:blipFill>
          <a:blip r:embed="rId1"/>
          <a:stretch/>
        </p:blipFill>
        <p:spPr>
          <a:xfrm>
            <a:off x="1492200" y="1176480"/>
            <a:ext cx="4195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62676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 Contract Bil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Manage%20Contract%20Billing" descr=""/>
          <p:cNvPicPr/>
          <p:nvPr/>
        </p:nvPicPr>
        <p:blipFill>
          <a:blip r:embed="rId1"/>
          <a:stretch/>
        </p:blipFill>
        <p:spPr>
          <a:xfrm>
            <a:off x="0" y="1778040"/>
            <a:ext cx="914076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62676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 Contract Reven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Manage%20Contract%20Revenue" descr=""/>
          <p:cNvPicPr/>
          <p:nvPr/>
        </p:nvPicPr>
        <p:blipFill>
          <a:blip r:embed="rId1"/>
          <a:stretch/>
        </p:blipFill>
        <p:spPr>
          <a:xfrm>
            <a:off x="0" y="2413080"/>
            <a:ext cx="91407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0160" y="1201320"/>
            <a:ext cx="868032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9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presentation was prepared by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lie Babicz, Senior Manag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aringPoi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725 W. Higgins Rd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icago, IL  6063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l: +1.773.867.6226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ax: +1.773.714.0399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-mail: millie.babicz@bearingpoint.co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4873680"/>
            <a:ext cx="85219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document is protected under the copyright laws of the United States and/or other countries as an unpublished work.. This document contains information that is proprietary and confidential to BearingPoint, Inc. and/or its affiliate(s), or its alliance partners, which shall not be duplicated, used, or disclosed in whole or in part for any purpose other than to evaluate BearingPoint, Inc. and/or its affiliate(s).  Any use or disclosure in whole or in part of this information without the express written permission of BearingPoint, Inc. is prohibi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BearingPoint, Inc. and/or its affiliate(s) (Unpublished).  All rights reserved.  Rapid Return on Investment is a component of BearingPoint's ProvenCourse(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delivery framework; 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is a registered trademark and 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Rapid Return on Investment is a service mark of BearingPoint, Inc. and its affiliate(s) in some countries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venCours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BearingPoint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Business and Systems Aligned. Business Empowere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re trademarks or service marks of BearingPoint, Inc. and/or its affilia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on how to access Process Flows on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: Login To Cisco VP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2: Access The Process 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3: Navigate The Process 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e Process Flows Ex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Process Flows for C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Sales Con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e Terms and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ture Contract Pr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e Contract Milestones and Pl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 Contract Bi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 Contract Reven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s on how to access Process Flows on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document serves to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 the user on the access procedure for PeopleSoft FMS 8.8 Process Flows on PeopleSoft Sandbo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sample process flows from PeopleSoft Contracts 8.8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1: Login to Cisco VP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unch VPN Dial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Entry: SVOVPN.bscdev.bearingpoi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name or IP Address of remote server: SVOVPN.bscdev.bearingpoi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“Connect”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name: &lt;firstname.last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: &lt;your pw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: bsc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O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do not have a BSC Account, go to 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1"/>
              </a:rPr>
              <a:t>http://inside.corp.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2"/>
              </a:rPr>
              <a:t>bearingpoint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3"/>
              </a:rPr>
              <a:t>.com/?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4"/>
              </a:rPr>
              <a:t>nodeid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5"/>
              </a:rPr>
              <a:t>=28705&amp;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6"/>
              </a:rPr>
              <a:t>ContentTypeID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7"/>
              </a:rPr>
              <a:t>=1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download access proced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2: Access the Process Flow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ocess flows can be accessed via 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1"/>
              </a:rPr>
              <a:t>http://172.16.24.33/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2"/>
              </a:rPr>
              <a:t>psoft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3"/>
              </a:rPr>
              <a:t>/fms88/index.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4"/>
              </a:rPr>
              <a:t>ht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305000" y="1612800"/>
            <a:ext cx="66247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3: Navigate the Process Flow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721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the “Process Modeler: ++PeopleSoft Enterprise” hyperlink on the left pane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2870280"/>
            <a:ext cx="200664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“Procurement”, then “Process Modeler: Procuremen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0680" y="4610160"/>
            <a:ext cx="142236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35880" cy="4977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access the next level of process flow, click on “Process Modeler: Settle Supplier Invoice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51360" y="5473800"/>
            <a:ext cx="1854360" cy="2156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5:43:05Z</dcterms:created>
  <dc:creator>R²i For PeopleSoft</dc:creator>
  <dc:description>&lt;CLIENT NAME&gt;</dc:description>
  <cp:keywords>8.8</cp:keywords>
  <dc:language>en-US</dc:language>
  <cp:lastModifiedBy>Gauri Mohnalkar</cp:lastModifiedBy>
  <dcterms:modified xsi:type="dcterms:W3CDTF">2004-09-20T13:41:29Z</dcterms:modified>
  <cp:revision>212</cp:revision>
  <dc:subject>&lt;PROJECT NAME&gt;</dc:subject>
  <dc:title>Contracts</dc:title>
</cp:coreProperties>
</file>