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BD762BD4-C2B7-4F52-8759-46401F255ADE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t Management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BD1-E877-4E57-A0FD-A206B114BCBE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AM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ord%20Assets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As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ord%20Journal%20Entri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84040"/>
            <a:ext cx="65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Capita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tablish%20Capital%20Plan" descr=""/>
          <p:cNvPicPr/>
          <p:nvPr/>
        </p:nvPicPr>
        <p:blipFill>
          <a:blip r:embed="rId1"/>
          <a:stretch/>
        </p:blipFill>
        <p:spPr>
          <a:xfrm>
            <a:off x="971640" y="2193840"/>
            <a:ext cx="7200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and Record Deprec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alculate%20and%20Record%20Depreciation" descr=""/>
          <p:cNvPicPr/>
          <p:nvPr/>
        </p:nvPicPr>
        <p:blipFill>
          <a:blip r:embed="rId1"/>
          <a:stretch/>
        </p:blipFill>
        <p:spPr>
          <a:xfrm>
            <a:off x="3240" y="1371600"/>
            <a:ext cx="91407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apture%20Transactions" descr=""/>
          <p:cNvPicPr/>
          <p:nvPr/>
        </p:nvPicPr>
        <p:blipFill>
          <a:blip r:embed="rId1"/>
          <a:stretch/>
        </p:blipFill>
        <p:spPr>
          <a:xfrm>
            <a:off x="1189080" y="1228680"/>
            <a:ext cx="67658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202680"/>
            <a:ext cx="671364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 Physical Inven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erform%20Physical%20Inventory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1880" y="309240"/>
            <a:ext cx="663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and Analyze Asset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epare%20and%20Analyze%20Asset%20Reports" descr=""/>
          <p:cNvPicPr/>
          <p:nvPr/>
        </p:nvPicPr>
        <p:blipFill>
          <a:blip r:embed="rId1"/>
          <a:stretch/>
        </p:blipFill>
        <p:spPr>
          <a:xfrm>
            <a:off x="622440" y="1131840"/>
            <a:ext cx="7897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Asset Maintenance and Rep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Schedule%20Asset%20Maintenance%20and%20Repair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60360"/>
            <a:ext cx="868032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ablish Capita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ulate and Record Depre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 Physical 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and Analyze Asset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 Asset Maintenance and 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Asset Management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09-20T16:30:17Z</dcterms:modified>
  <cp:revision>215</cp:revision>
  <dc:subject>&lt;PROJECT NAME&gt;</dc:subject>
  <dc:title>General Ledger</dc:title>
</cp:coreProperties>
</file>