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1812D163-6E71-42CC-AC80-4618C9476D96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Costing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341-37D2-4144-BBD0-8D6013D050B2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PC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20304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Project Budg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reate%20Project%20Budget" descr="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240" y="23328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Project Requests and Subm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Create%20Project%20Requests%20and%20Submit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95120"/>
            <a:ext cx="6510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Manage%20Project%20Costs" descr=""/>
          <p:cNvPicPr/>
          <p:nvPr/>
        </p:nvPicPr>
        <p:blipFill>
          <a:blip r:embed="rId1"/>
          <a:stretch/>
        </p:blipFill>
        <p:spPr>
          <a:xfrm>
            <a:off x="700200" y="1314360"/>
            <a:ext cx="7743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Manage%20Project%20Materials" descr=""/>
          <p:cNvPicPr/>
          <p:nvPr/>
        </p:nvPicPr>
        <p:blipFill>
          <a:blip r:embed="rId1"/>
          <a:stretch/>
        </p:blipFill>
        <p:spPr>
          <a:xfrm>
            <a:off x="1400040" y="2171880"/>
            <a:ext cx="634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Portf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Manage%20Project%20Portfolio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Tasks and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Manage%20Project%20Tasks%20and%20Schedule" descr="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lan%20Project" descr=""/>
          <p:cNvPicPr/>
          <p:nvPr/>
        </p:nvPicPr>
        <p:blipFill>
          <a:blip r:embed="rId1"/>
          <a:stretch/>
        </p:blipFill>
        <p:spPr>
          <a:xfrm>
            <a:off x="314280" y="1600200"/>
            <a:ext cx="851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nalyze%20Projec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Pro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Analyze%20the%20Portfolio" descr=""/>
          <p:cNvPicPr/>
          <p:nvPr/>
        </p:nvPicPr>
        <p:blipFill>
          <a:blip r:embed="rId1"/>
          <a:stretch/>
        </p:blipFill>
        <p:spPr>
          <a:xfrm>
            <a:off x="1486080" y="212760"/>
            <a:ext cx="7657920" cy="6354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the Portf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alyze%20the%20Progr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the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 Ass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pprove%20Assignment" descr=""/>
          <p:cNvPicPr/>
          <p:nvPr/>
        </p:nvPicPr>
        <p:blipFill>
          <a:blip r:embed="rId1"/>
          <a:stretch/>
        </p:blipFill>
        <p:spPr>
          <a:xfrm>
            <a:off x="0" y="981000"/>
            <a:ext cx="6867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Approve%20Project%20Requests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4287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 Projec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ssign%20Resources%20to%20Projec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Resources to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rogram%20Management" descr=""/>
          <p:cNvPicPr/>
          <p:nvPr/>
        </p:nvPicPr>
        <p:blipFill>
          <a:blip r:embed="rId1"/>
          <a:stretch/>
        </p:blipFill>
        <p:spPr>
          <a:xfrm>
            <a:off x="1085760" y="1405080"/>
            <a:ext cx="69724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Billing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rovide%20Billing%20Information" descr=""/>
          <p:cNvPicPr/>
          <p:nvPr/>
        </p:nvPicPr>
        <p:blipFill>
          <a:blip r:embed="rId1"/>
          <a:stretch/>
        </p:blipFill>
        <p:spPr>
          <a:xfrm>
            <a:off x="700200" y="1424160"/>
            <a:ext cx="774360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Project Accounting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%20Project%20Accounting%20Entries" descr="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Project As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ord%20Project%20Asset" descr="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0840" y="152280"/>
            <a:ext cx="651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rve or Assign Resource to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serve%20or%20Assign%20Resource%20to%20Project" descr=""/>
          <p:cNvPicPr/>
          <p:nvPr/>
        </p:nvPicPr>
        <p:blipFill>
          <a:blip r:embed="rId1"/>
          <a:stretch/>
        </p:blipFill>
        <p:spPr>
          <a:xfrm>
            <a:off x="1085760" y="1846440"/>
            <a:ext cx="697248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60360"/>
            <a:ext cx="868032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mple Process Flows for PC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 Project Budge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 Project Requests and Sub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Tasks and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ze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ze the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ze the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e Project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gn Resources to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Billing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rd Project Accounting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rd Project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erve or Assign Resource to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e Project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e Internal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fine Project Scope, Deliverables, Schedule, Resources, Tasks, and Work Breakdown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ture Labor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ture Material and Expens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culate Interest and Allocate Overhead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d Specific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 Project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fy High Level Project Costs, Benefits and Risk Sc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 Status Reports and Manage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t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Project Adjust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Make%20Project%20Adjustments" descr=""/>
          <p:cNvPicPr/>
          <p:nvPr/>
        </p:nvPicPr>
        <p:blipFill>
          <a:blip r:embed="rId1"/>
          <a:stretch/>
        </p:blipFill>
        <p:spPr>
          <a:xfrm>
            <a:off x="266760" y="1171440"/>
            <a:ext cx="8610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 Internal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stribute%20Internal%20Costs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Define%20Project%20Scope,%20Deliverables,%20Schedule,%20Resources,%20Tasks,%20and%20Work%20Breakdown%20Structure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0760" cy="5778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02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Project Scope, Deliverables, Schedule, Resources, Tasks and Work Breakdow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apture%20Labor%20Costs" descr=""/>
          <p:cNvPicPr/>
          <p:nvPr/>
        </p:nvPicPr>
        <p:blipFill>
          <a:blip r:embed="rId1"/>
          <a:stretch/>
        </p:blipFill>
        <p:spPr>
          <a:xfrm>
            <a:off x="2297160" y="0"/>
            <a:ext cx="6846840" cy="6765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82520" y="-360"/>
            <a:ext cx="3792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Lab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Material and Expense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apture%20Material%20and%20Expense%20Costs" descr=""/>
          <p:cNvPicPr/>
          <p:nvPr/>
        </p:nvPicPr>
        <p:blipFill>
          <a:blip r:embed="rId1"/>
          <a:stretch/>
        </p:blipFill>
        <p:spPr>
          <a:xfrm>
            <a:off x="3143160" y="450720"/>
            <a:ext cx="60008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Interest and Allocate Overhead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alculate%20Interest%20and%20Allocate%20Overhead%20Costs" descr=""/>
          <p:cNvPicPr/>
          <p:nvPr/>
        </p:nvPicPr>
        <p:blipFill>
          <a:blip r:embed="rId1"/>
          <a:stretch/>
        </p:blipFill>
        <p:spPr>
          <a:xfrm>
            <a:off x="1846440" y="1228680"/>
            <a:ext cx="5451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Specific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Find%20Specific%20Resource" descr=""/>
          <p:cNvPicPr/>
          <p:nvPr/>
        </p:nvPicPr>
        <p:blipFill>
          <a:blip r:embed="rId1"/>
          <a:stretch/>
        </p:blipFill>
        <p:spPr>
          <a:xfrm>
            <a:off x="971640" y="2057400"/>
            <a:ext cx="720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Project 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eive%20Project%20Requests" descr=""/>
          <p:cNvPicPr/>
          <p:nvPr/>
        </p:nvPicPr>
        <p:blipFill>
          <a:blip r:embed="rId1"/>
          <a:stretch/>
        </p:blipFill>
        <p:spPr>
          <a:xfrm>
            <a:off x="604800" y="1881360"/>
            <a:ext cx="79344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 High Level Project Costs, Benefits and Risk Sc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Verify%20High%20Level%20Project%20Costs,%20Benefits%20and%20Risk%20Scores" descr="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tatus Reports and Manag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Create%20Status%20Reports%20and%20Manage%20Issues" descr="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Project Costing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Complete%20Project" descr=""/>
          <p:cNvPicPr/>
          <p:nvPr/>
        </p:nvPicPr>
        <p:blipFill>
          <a:blip r:embed="rId1"/>
          <a:stretch/>
        </p:blipFill>
        <p:spPr>
          <a:xfrm>
            <a:off x="42840" y="1652760"/>
            <a:ext cx="90583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Execute%20Projec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5405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10-05T16:46:20Z</dcterms:modified>
  <cp:revision>231</cp:revision>
  <dc:subject>&lt;PROJECT NAME&gt;</dc:subject>
  <dc:title>General Ledger</dc:title>
</cp:coreProperties>
</file>