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4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332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804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332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9804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48920"/>
            <a:ext cx="651024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4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4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6332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804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6332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9804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48920"/>
            <a:ext cx="651024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4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12705"/>
          <a:stretch/>
        </p:blipFill>
        <p:spPr>
          <a:xfrm>
            <a:off x="7077240" y="455760"/>
            <a:ext cx="1755720" cy="698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spcBef>
                <a:spcPts val="1925"/>
              </a:spcBef>
              <a:spcAft>
                <a:spcPts val="275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-228600">
              <a:spcBef>
                <a:spcPts val="1925"/>
              </a:spcBef>
              <a:spcAft>
                <a:spcPts val="275"/>
              </a:spcAft>
              <a:buClr>
                <a:srgbClr val="d0a660"/>
              </a:buClr>
              <a:buSzPct val="75000"/>
              <a:buFont typeface="Arial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925"/>
              </a:spcBef>
              <a:spcAft>
                <a:spcPts val="27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925"/>
              </a:spcBef>
              <a:spcAft>
                <a:spcPts val="275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925"/>
              </a:spcBef>
              <a:spcAft>
                <a:spcPts val="275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925"/>
              </a:spcBef>
              <a:spcAft>
                <a:spcPts val="275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28600"/>
            <a:ext cx="6705720" cy="0"/>
          </a:xfrm>
          <a:prstGeom prst="line">
            <a:avLst/>
          </a:prstGeom>
          <a:ln w="57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41920" y="6602400"/>
            <a:ext cx="1166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4 BearingPoint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727360" y="6536520"/>
            <a:ext cx="615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for PeopleSoft </a:t>
            </a:r>
            <a:r>
              <a:rPr b="0" lang="en-US" sz="1000" spc="-1" strike="noStrike">
                <a:solidFill>
                  <a:srgbClr val="d0a66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000" spc="-1" strike="noStrike">
                <a:solidFill>
                  <a:srgbClr val="d0a66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PeopleSoft Solution Team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d0a660"/>
                </a:solidFill>
                <a:latin typeface="Arial"/>
              </a:rPr>
              <a:t> </a:t>
            </a:r>
            <a:fld id="{6262624E-0CA5-4992-A18F-F8F7F6263F21}" type="slidenum">
              <a:rPr b="0" lang="en-US" sz="1000" spc="-1" strike="noStrike">
                <a:solidFill>
                  <a:srgbClr val="d0a66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57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57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0" b="14088"/>
          <a:stretch/>
        </p:blipFill>
        <p:spPr>
          <a:xfrm>
            <a:off x="6573960" y="546120"/>
            <a:ext cx="1714320" cy="671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39760" indent="0" algn="ctr"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4360" algn="ctr">
              <a:spcBef>
                <a:spcPts val="1001"/>
              </a:spcBef>
              <a:spcAft>
                <a:spcPts val="201"/>
              </a:spcAft>
              <a:buClr>
                <a:srgbClr val="d0a660"/>
              </a:buClr>
              <a:buSzPct val="75000"/>
              <a:buFont typeface="Arial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nside.corp.bearingpoint.com/?nodeid=28705&amp;ContentTypeID=14" TargetMode="External"/><Relationship Id="rId2" Type="http://schemas.openxmlformats.org/officeDocument/2006/relationships/hyperlink" Target="http://inside.corp.bearingpoint.com/?nodeid=28705&amp;ContentTypeID=14" TargetMode="External"/><Relationship Id="rId3" Type="http://schemas.openxmlformats.org/officeDocument/2006/relationships/hyperlink" Target="http://inside.corp.bearingpoint.com/?nodeid=28705&amp;ContentTypeID=14" TargetMode="External"/><Relationship Id="rId4" Type="http://schemas.openxmlformats.org/officeDocument/2006/relationships/hyperlink" Target="http://inside.corp.bearingpoint.com/?nodeid=28705&amp;ContentTypeID=14" TargetMode="External"/><Relationship Id="rId5" Type="http://schemas.openxmlformats.org/officeDocument/2006/relationships/hyperlink" Target="http://inside.corp.bearingpoint.com/?nodeid=28705&amp;ContentTypeID=14" TargetMode="External"/><Relationship Id="rId6" Type="http://schemas.openxmlformats.org/officeDocument/2006/relationships/hyperlink" Target="http://inside.corp.bearingpoint.com/?nodeid=28705&amp;ContentTypeID=14" TargetMode="External"/><Relationship Id="rId7" Type="http://schemas.openxmlformats.org/officeDocument/2006/relationships/hyperlink" Target="http://inside.corp.bearingpoint.com/?nodeid=28705&amp;ContentTypeID=14" TargetMode="External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172.16.24.33/psoft/fms88/index.htm" TargetMode="External"/><Relationship Id="rId2" Type="http://schemas.openxmlformats.org/officeDocument/2006/relationships/hyperlink" Target="http://172.16.24.33/psoft/fms88/index.htm" TargetMode="External"/><Relationship Id="rId3" Type="http://schemas.openxmlformats.org/officeDocument/2006/relationships/hyperlink" Target="http://172.16.24.33/psoft/fms88/index.htm" TargetMode="External"/><Relationship Id="rId4" Type="http://schemas.openxmlformats.org/officeDocument/2006/relationships/hyperlink" Target="http://172.16.24.33/psoft/fms88/index.htm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ounts Receivable 8.8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ess Flow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6651720"/>
            <a:ext cx="1981080" cy="0"/>
          </a:xfrm>
          <a:prstGeom prst="line">
            <a:avLst/>
          </a:prstGeom>
          <a:ln w="3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6651720"/>
            <a:ext cx="1981080" cy="0"/>
          </a:xfrm>
          <a:prstGeom prst="line">
            <a:avLst/>
          </a:prstGeom>
          <a:ln w="3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08440" y="6607080"/>
            <a:ext cx="3324240" cy="1270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71400" y="3928680"/>
            <a:ext cx="808056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for PeopleSof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opleSoft Solution Te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931B-EBB6-4578-A165-2B5DA0AEB31C}" type="datetime3">
              <a:rPr b="1" lang="en-US" sz="18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vigate Process Flows Example: Process Flows for Accounts Payabl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64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lick on “Definition for Procurement” to view the Workflow Interpreter (Task: ++PeopleSoft Enterprise). This provides description of the process, tasks included, events initiated, inputs accepted, and outputs delivered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306440" y="1608120"/>
            <a:ext cx="662796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mple Process Flows for AR 8.8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 Receivable I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Create%20Receivable%20Items" descr=""/>
          <p:cNvPicPr/>
          <p:nvPr/>
        </p:nvPicPr>
        <p:blipFill>
          <a:blip r:embed="rId1"/>
          <a:stretch/>
        </p:blipFill>
        <p:spPr>
          <a:xfrm>
            <a:off x="0" y="1714680"/>
            <a:ext cx="914076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 Customer Pay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rocess%20Customer%20Payments" descr=""/>
          <p:cNvPicPr/>
          <p:nvPr/>
        </p:nvPicPr>
        <p:blipFill>
          <a:blip r:embed="rId1"/>
          <a:stretch/>
        </p:blipFill>
        <p:spPr>
          <a:xfrm>
            <a:off x="1603440" y="1170000"/>
            <a:ext cx="53848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rocess%20Credit%20Card%20Payments" descr=""/>
          <p:cNvPicPr/>
          <p:nvPr/>
        </p:nvPicPr>
        <p:blipFill>
          <a:blip r:embed="rId1"/>
          <a:stretch/>
        </p:blipFill>
        <p:spPr>
          <a:xfrm>
            <a:off x="797040" y="1155600"/>
            <a:ext cx="7453080" cy="54183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 Credit Card Pay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Receive%20Payments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70009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14160" y="144000"/>
            <a:ext cx="66121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eive Pay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ly Pay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Apply%20Payments" descr=""/>
          <p:cNvPicPr/>
          <p:nvPr/>
        </p:nvPicPr>
        <p:blipFill>
          <a:blip r:embed="rId1"/>
          <a:stretch/>
        </p:blipFill>
        <p:spPr>
          <a:xfrm>
            <a:off x="0" y="1444680"/>
            <a:ext cx="914076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Analyze%20Receivable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00480" y="81000"/>
            <a:ext cx="66117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yze Receiv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0160" y="1201320"/>
            <a:ext cx="868032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9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s presentation was prepared by: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llie Babicz, Senior Manager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earingPoin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725 W. Higgins Rd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icago, IL  6063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el: +1.773.867.6226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ax: +1.773.714.0399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-mail: millie.babicz@bearingpoint.com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4873680"/>
            <a:ext cx="852192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document is protected under the copyright laws of the United States and/or other countries as an unpublished work.. This document contains information that is proprietary and confidential to BearingPoint, Inc. and/or its affiliate(s), or its alliance partners, which shall not be duplicated, used, or disclosed in whole or in part for any purpose other than to evaluate BearingPoint, Inc. and/or its affiliate(s).  Any use or disclosure in whole or in part of this information without the express written permission of BearingPoint, Inc. is prohibi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4 BearingPoint, Inc. and/or its affiliate(s) (Unpublished).  All rights reserved.  Rapid Return on Investment is a component of BearingPoint's ProvenCourse(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delivery framework; R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is a registered trademark and R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Rapid Return on Investment is a service mark of BearingPoint, Inc. and its affiliate(s) in some countries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ovenCours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S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BearingPoint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Business and Systems Aligned. Business Empowered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re trademarks or service marks of BearingPoint, Inc. and/or its affiliat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 on how to access Process Flows onl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1: Login To Cisco VP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2: Access The Process F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3: Navigate The Process F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-22860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e Process Flows Ex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Process Flows for 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Receivable I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 Customer Pay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 Credit Card Pay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 Pay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y Pay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yze Recei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ctions on how to access Process Flows on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is document serves to: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25"/>
              </a:spcBef>
              <a:spcAft>
                <a:spcPts val="275"/>
              </a:spcAft>
              <a:buClr>
                <a:srgbClr val="d0a66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 the user on the access procedure for PeopleSoft FMS 8.8 Process Flows on PeopleSoft Sandbo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25"/>
              </a:spcBef>
              <a:spcAft>
                <a:spcPts val="275"/>
              </a:spcAft>
              <a:buClr>
                <a:srgbClr val="d0a66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 sample process flows from PeopleSoft Accounts Receivable 8.8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1: Login to Cisco VP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unch VPN Dial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Entry: SVOVPN.bscdev.bearingpoin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name or IP Address of remote server: SVOVPN.bscdev.bearingpoin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“Connect”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name: &lt;firstname.lastn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word: &lt;your pw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: bscd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“O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do not have a BSC Account, go to 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1"/>
              </a:rPr>
              <a:t>http://inside.corp.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2"/>
              </a:rPr>
              <a:t>bearingpoint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3"/>
              </a:rPr>
              <a:t>.com/?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4"/>
              </a:rPr>
              <a:t>nodeid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5"/>
              </a:rPr>
              <a:t>=28705&amp;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6"/>
              </a:rPr>
              <a:t>ContentTypeID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7"/>
              </a:rPr>
              <a:t>=14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o download access proced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ep 2: Access the Process Flow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64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process flows can be accessed via </a:t>
            </a:r>
            <a:r>
              <a:rPr b="0" lang="en-US" sz="1800" spc="-1" strike="noStrike" u="sng">
                <a:solidFill>
                  <a:srgbClr val="0101ff"/>
                </a:solidFill>
                <a:uFillTx/>
                <a:latin typeface="Arial"/>
                <a:ea typeface="Times New Roman"/>
                <a:hlinkClick r:id="rId1"/>
              </a:rPr>
              <a:t>http://172.16.24.33/</a:t>
            </a:r>
            <a:r>
              <a:rPr b="0" lang="en-US" sz="1800" spc="-1" strike="noStrike" u="sng">
                <a:solidFill>
                  <a:srgbClr val="0101ff"/>
                </a:solidFill>
                <a:uFillTx/>
                <a:latin typeface="Arial"/>
                <a:ea typeface="Times New Roman"/>
                <a:hlinkClick r:id="rId2"/>
              </a:rPr>
              <a:t>psoft</a:t>
            </a:r>
            <a:r>
              <a:rPr b="0" lang="en-US" sz="1800" spc="-1" strike="noStrike" u="sng">
                <a:solidFill>
                  <a:srgbClr val="0101ff"/>
                </a:solidFill>
                <a:uFillTx/>
                <a:latin typeface="Arial"/>
                <a:ea typeface="Times New Roman"/>
                <a:hlinkClick r:id="rId3"/>
              </a:rPr>
              <a:t>/fms88/index.</a:t>
            </a:r>
            <a:r>
              <a:rPr b="0" lang="en-US" sz="1800" spc="-1" strike="noStrike" u="sng">
                <a:solidFill>
                  <a:srgbClr val="0101ff"/>
                </a:solidFill>
                <a:uFillTx/>
                <a:latin typeface="Arial"/>
                <a:ea typeface="Times New Roman"/>
                <a:hlinkClick r:id="rId4"/>
              </a:rPr>
              <a:t>ht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1305000" y="1612800"/>
            <a:ext cx="662472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ep 3: Navigate the Process Flow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7217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lick on the “Process Modeler: ++PeopleSoft Enterprise” hyperlink on the left pane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306440" y="1608120"/>
            <a:ext cx="6627960" cy="4978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43000" y="2870280"/>
            <a:ext cx="2006640" cy="2286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vigate Process Flows Example: Process Flows for Accounts Payabl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64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lick on “Procurement”, then “Process Modeler: Procurement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06440" y="1608120"/>
            <a:ext cx="6627960" cy="4978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000680" y="4610160"/>
            <a:ext cx="1422360" cy="2286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06440" y="1608120"/>
            <a:ext cx="6635880" cy="4977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vigate Process Flows Example: Process Flows for Accounts Payabl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64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access the next level of process flow, click on “Process Modeler: Settle Supplier Invoice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51360" y="5473800"/>
            <a:ext cx="1854360" cy="21564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5:43:05Z</dcterms:created>
  <dc:creator>R²i For PeopleSoft</dc:creator>
  <dc:description>&lt;CLIENT NAME&gt;</dc:description>
  <cp:keywords>8.8</cp:keywords>
  <dc:language>en-US</dc:language>
  <cp:lastModifiedBy>Gauri Mohnalkar</cp:lastModifiedBy>
  <dcterms:modified xsi:type="dcterms:W3CDTF">2004-09-15T21:52:08Z</dcterms:modified>
  <cp:revision>205</cp:revision>
  <dc:subject>&lt;PROJECT NAME&gt;</dc:subject>
  <dc:title>Accounts Receivable</dc:title>
</cp:coreProperties>
</file>