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476360"/>
            <a:ext cx="868032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89080"/>
            <a:ext cx="868032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476360"/>
            <a:ext cx="423576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6400" y="1476360"/>
            <a:ext cx="423576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576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6400" y="3889080"/>
            <a:ext cx="423576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476360"/>
            <a:ext cx="279468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3320" y="1476360"/>
            <a:ext cx="279468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98040" y="1476360"/>
            <a:ext cx="279468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89080"/>
            <a:ext cx="279468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3320" y="3889080"/>
            <a:ext cx="279468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98040" y="3889080"/>
            <a:ext cx="279468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228600" y="1476360"/>
            <a:ext cx="8680320" cy="46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476360"/>
            <a:ext cx="868032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476360"/>
            <a:ext cx="423576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6400" y="1476360"/>
            <a:ext cx="423576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28600" y="448920"/>
            <a:ext cx="6510240" cy="264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8600" y="1476360"/>
            <a:ext cx="423576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6400" y="1476360"/>
            <a:ext cx="423576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576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476360"/>
            <a:ext cx="8680320" cy="46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600" y="1476360"/>
            <a:ext cx="423576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6400" y="1476360"/>
            <a:ext cx="423576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6400" y="3889080"/>
            <a:ext cx="423576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600" y="1476360"/>
            <a:ext cx="423576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476360"/>
            <a:ext cx="423576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868032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600" y="1476360"/>
            <a:ext cx="868032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28600" y="3889080"/>
            <a:ext cx="868032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476360"/>
            <a:ext cx="423576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6400" y="1476360"/>
            <a:ext cx="423576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576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6400" y="3889080"/>
            <a:ext cx="423576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28600" y="1476360"/>
            <a:ext cx="279468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163320" y="1476360"/>
            <a:ext cx="279468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98040" y="1476360"/>
            <a:ext cx="279468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228600" y="3889080"/>
            <a:ext cx="279468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163320" y="3889080"/>
            <a:ext cx="279468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98040" y="3889080"/>
            <a:ext cx="279468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476360"/>
            <a:ext cx="868032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476360"/>
            <a:ext cx="423576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6400" y="1476360"/>
            <a:ext cx="423576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48920"/>
            <a:ext cx="6510240" cy="264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476360"/>
            <a:ext cx="423576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6400" y="1476360"/>
            <a:ext cx="423576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576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476360"/>
            <a:ext cx="423576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6400" y="1476360"/>
            <a:ext cx="423576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6400" y="3889080"/>
            <a:ext cx="423576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476360"/>
            <a:ext cx="423576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6400" y="1476360"/>
            <a:ext cx="423576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868032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0" b="12705"/>
          <a:stretch/>
        </p:blipFill>
        <p:spPr>
          <a:xfrm>
            <a:off x="7077240" y="455760"/>
            <a:ext cx="1755720" cy="6984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476360"/>
            <a:ext cx="868032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25600" indent="-285840">
              <a:spcBef>
                <a:spcPts val="1925"/>
              </a:spcBef>
              <a:spcAft>
                <a:spcPts val="275"/>
              </a:spcAft>
              <a:buClr>
                <a:srgbClr val="d0a660"/>
              </a:buClr>
              <a:buSzPct val="7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2960" indent="-228600">
              <a:spcBef>
                <a:spcPts val="1925"/>
              </a:spcBef>
              <a:spcAft>
                <a:spcPts val="275"/>
              </a:spcAft>
              <a:buClr>
                <a:srgbClr val="d0a660"/>
              </a:buClr>
              <a:buSzPct val="75000"/>
              <a:buFont typeface="Arial"/>
              <a:buChar char="—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925"/>
              </a:spcBef>
              <a:spcAft>
                <a:spcPts val="275"/>
              </a:spcAft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925"/>
              </a:spcBef>
              <a:spcAft>
                <a:spcPts val="275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925"/>
              </a:spcBef>
              <a:spcAft>
                <a:spcPts val="275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925"/>
              </a:spcBef>
              <a:spcAft>
                <a:spcPts val="275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1128600"/>
            <a:ext cx="6705720" cy="0"/>
          </a:xfrm>
          <a:prstGeom prst="line">
            <a:avLst/>
          </a:prstGeom>
          <a:ln w="57240">
            <a:solidFill>
              <a:srgbClr val="d0a6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41920" y="6602400"/>
            <a:ext cx="11667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2004 BearingPoint, Inc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727360" y="6536520"/>
            <a:ext cx="615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 for PeopleSoft </a:t>
            </a:r>
            <a:r>
              <a:rPr b="0" lang="en-US" sz="1000" spc="-1" strike="noStrike">
                <a:solidFill>
                  <a:srgbClr val="d0a66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en-US" sz="1000" spc="-1" strike="noStrike">
                <a:solidFill>
                  <a:srgbClr val="d0a66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PeopleSoft Solution Team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800" spc="-1" strike="noStrike">
                <a:solidFill>
                  <a:srgbClr val="d0a660"/>
                </a:solidFill>
                <a:latin typeface="Arial"/>
              </a:rPr>
              <a:t> </a:t>
            </a:r>
            <a:fld id="{23BB3EFF-7376-48D7-BFB4-05A5558BACEB}" type="slidenum">
              <a:rPr b="0" lang="en-US" sz="1000" spc="-1" strike="noStrike">
                <a:solidFill>
                  <a:srgbClr val="d0a66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85800" y="2133720"/>
            <a:ext cx="7772400" cy="0"/>
          </a:xfrm>
          <a:prstGeom prst="line">
            <a:avLst/>
          </a:prstGeom>
          <a:ln w="57240">
            <a:solidFill>
              <a:srgbClr val="d0a6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3886200"/>
            <a:ext cx="7772400" cy="0"/>
          </a:xfrm>
          <a:prstGeom prst="line">
            <a:avLst/>
          </a:prstGeom>
          <a:ln w="57240">
            <a:solidFill>
              <a:srgbClr val="d0a6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rcRect l="0" t="0" r="0" b="14088"/>
          <a:stretch/>
        </p:blipFill>
        <p:spPr>
          <a:xfrm>
            <a:off x="6573960" y="546120"/>
            <a:ext cx="1714320" cy="6714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39760" indent="0" algn="ctr">
              <a:spcBef>
                <a:spcPts val="1125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84360" algn="ctr">
              <a:spcBef>
                <a:spcPts val="1001"/>
              </a:spcBef>
              <a:spcAft>
                <a:spcPts val="201"/>
              </a:spcAft>
              <a:buClr>
                <a:srgbClr val="d0a660"/>
              </a:buClr>
              <a:buSzPct val="75000"/>
              <a:buFont typeface="Arial"/>
              <a:buChar char="—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nside.corp.bearingpoint.com/?nodeid=28705&amp;ContentTypeID=14" TargetMode="External"/><Relationship Id="rId2" Type="http://schemas.openxmlformats.org/officeDocument/2006/relationships/hyperlink" Target="http://inside.corp.bearingpoint.com/?nodeid=28705&amp;ContentTypeID=14" TargetMode="External"/><Relationship Id="rId3" Type="http://schemas.openxmlformats.org/officeDocument/2006/relationships/hyperlink" Target="http://inside.corp.bearingpoint.com/?nodeid=28705&amp;ContentTypeID=14" TargetMode="External"/><Relationship Id="rId4" Type="http://schemas.openxmlformats.org/officeDocument/2006/relationships/hyperlink" Target="http://inside.corp.bearingpoint.com/?nodeid=28705&amp;ContentTypeID=14" TargetMode="External"/><Relationship Id="rId5" Type="http://schemas.openxmlformats.org/officeDocument/2006/relationships/hyperlink" Target="http://inside.corp.bearingpoint.com/?nodeid=28705&amp;ContentTypeID=14" TargetMode="External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172.16.24.33/psoft/fms88/index.htm" TargetMode="External"/><Relationship Id="rId2" Type="http://schemas.openxmlformats.org/officeDocument/2006/relationships/hyperlink" Target="http://172.16.24.33/psoft/fms88/index.htm" TargetMode="External"/><Relationship Id="rId3" Type="http://schemas.openxmlformats.org/officeDocument/2006/relationships/hyperlink" Target="http://172.16.24.33/psoft/fms88/index.htm" TargetMode="External"/><Relationship Id="rId4" Type="http://schemas.openxmlformats.org/officeDocument/2006/relationships/hyperlink" Target="http://172.16.24.33/psoft/fms88/index.htm" TargetMode="External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ounts Payable 8.8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ocess Flow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5800" y="6651720"/>
            <a:ext cx="1981080" cy="0"/>
          </a:xfrm>
          <a:prstGeom prst="line">
            <a:avLst/>
          </a:prstGeom>
          <a:ln w="3240">
            <a:solidFill>
              <a:srgbClr val="d0a6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477120" y="6651720"/>
            <a:ext cx="1981080" cy="0"/>
          </a:xfrm>
          <a:prstGeom prst="line">
            <a:avLst/>
          </a:prstGeom>
          <a:ln w="3240">
            <a:solidFill>
              <a:srgbClr val="d0a6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908440" y="6607080"/>
            <a:ext cx="3324240" cy="12708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71400" y="3928680"/>
            <a:ext cx="8080560" cy="25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 for PeopleSof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opleSoft Solution Tea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5D975-E617-44AA-9E0F-167FB85EBD82}" type="datetime3">
              <a:rPr b="1" lang="en-US" sz="1800" spc="-1" strike="noStrike">
                <a:solidFill>
                  <a:srgbClr val="000000"/>
                </a:solidFill>
                <a:latin typeface="Arial"/>
              </a:rPr>
              <a:t>July 31, 2026</a:t>
            </a:fld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Navigate Process Flows Example: Process Flows for Accounts Payable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28240" y="1247760"/>
            <a:ext cx="8645400" cy="4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Click on “Definition for Procurement” to view the Workflow Interpreter (Task: ++PeopleSoft Enterprise). This provides description of the process, tasks included, events initiated, inputs accepted, and outputs delivered.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833480" y="13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833480" y="13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833480" y="13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600200" y="12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833480" y="13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306440" y="1608120"/>
            <a:ext cx="6627960" cy="497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ample Process Flows for AP 8.8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Create%20Voucher" descr=""/>
          <p:cNvPicPr/>
          <p:nvPr/>
        </p:nvPicPr>
        <p:blipFill>
          <a:blip r:embed="rId1"/>
          <a:stretch/>
        </p:blipFill>
        <p:spPr>
          <a:xfrm>
            <a:off x="3240" y="0"/>
            <a:ext cx="9140760" cy="685800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633760" y="0"/>
            <a:ext cx="651024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ate Vouch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Match%20and%20Approve%20Voucher" descr=""/>
          <p:cNvPicPr/>
          <p:nvPr/>
        </p:nvPicPr>
        <p:blipFill>
          <a:blip r:embed="rId1"/>
          <a:stretch/>
        </p:blipFill>
        <p:spPr>
          <a:xfrm>
            <a:off x="3240" y="1395360"/>
            <a:ext cx="9140760" cy="428940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tch and Approve Vouch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concile Payabl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Reconcile%20Payables" descr=""/>
          <p:cNvPicPr/>
          <p:nvPr/>
        </p:nvPicPr>
        <p:blipFill>
          <a:blip r:embed="rId1"/>
          <a:stretch/>
        </p:blipFill>
        <p:spPr>
          <a:xfrm>
            <a:off x="3240" y="1496880"/>
            <a:ext cx="9140760" cy="45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concile Payables Bank Statements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Reconcile%20Payables%20Bank%20Statements" descr=""/>
          <p:cNvPicPr/>
          <p:nvPr/>
        </p:nvPicPr>
        <p:blipFill>
          <a:blip r:embed="rId1"/>
          <a:stretch/>
        </p:blipFill>
        <p:spPr>
          <a:xfrm>
            <a:off x="3240" y="1452600"/>
            <a:ext cx="9140760" cy="44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ttle Supplier Invoic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Settle%20Supplier%20Invoices" descr=""/>
          <p:cNvPicPr/>
          <p:nvPr/>
        </p:nvPicPr>
        <p:blipFill>
          <a:blip r:embed="rId1"/>
          <a:stretch/>
        </p:blipFill>
        <p:spPr>
          <a:xfrm>
            <a:off x="289080" y="1293840"/>
            <a:ext cx="8515080" cy="521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curemen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rocurement" descr=""/>
          <p:cNvPicPr/>
          <p:nvPr/>
        </p:nvPicPr>
        <p:blipFill>
          <a:blip r:embed="rId1"/>
          <a:stretch/>
        </p:blipFill>
        <p:spPr>
          <a:xfrm>
            <a:off x="0" y="1577880"/>
            <a:ext cx="5578560" cy="528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utho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00160" y="1201320"/>
            <a:ext cx="8680320" cy="19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9"/>
              </a:spcBef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his presentation was prepared by: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illie Babicz, Senior Manager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BearingPoint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725 W. Higgins Rd.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hicago, IL  60631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el: +1.773.867.6226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ax: +1.773.714.0399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E-mail: millie.babicz@bearingpoint.com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95120" y="4873680"/>
            <a:ext cx="8521920" cy="15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is document is protected under the copyright laws of the United States and/or other countries as an unpublished work.. This document contains information that is proprietary and confidential to BearingPoint, Inc. and/or its affiliate(s), or its alliance partners, which shall not be duplicated, used, or disclosed in whole or in part for any purpose other than to evaluate BearingPoint, Inc. and/or its affiliate(s).  Any use or disclosure in whole or in part of this information without the express written permission of BearingPoint, Inc. is prohibit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2004 BearingPoint, Inc. and/or its affiliate(s) (Unpublished).  All rights reserved.  Rapid Return on Investment is a component of BearingPoint's ProvenCourse(</a:t>
            </a:r>
            <a:r>
              <a:rPr b="0" lang="en-US" sz="1000" spc="-1" strike="noStrike" baseline="30000">
                <a:solidFill>
                  <a:srgbClr val="000000"/>
                </a:solidFill>
                <a:latin typeface="Arial"/>
              </a:rPr>
              <a:t>SM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 delivery framework; R</a:t>
            </a:r>
            <a:r>
              <a:rPr b="0" lang="en-US" sz="1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 is a registered trademark and R</a:t>
            </a:r>
            <a:r>
              <a:rPr b="0" lang="en-US" sz="1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 Rapid Return on Investment is a service mark of BearingPoint, Inc. and its affiliate(s) in some countries.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rovenCourse</a:t>
            </a:r>
            <a:r>
              <a:rPr b="0" lang="en-US" sz="10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SM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, BearingPoint</a:t>
            </a:r>
            <a:r>
              <a:rPr b="0" lang="en-US" sz="10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TM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, and Business and Systems Aligned. Business Empowered</a:t>
            </a:r>
            <a:r>
              <a:rPr b="0" lang="en-US" sz="10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TM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re trademarks or service marks of BearingPoint, Inc. and/or its affiliate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able of Conten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260360"/>
            <a:ext cx="8680320" cy="53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ructions on how to access Process Flows onlin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5600" indent="-285840">
              <a:lnSpc>
                <a:spcPct val="90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ep 1: Login To Cisco VP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5600" indent="-285840">
              <a:lnSpc>
                <a:spcPct val="90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ep 2: Access The Process Flow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5600" indent="-285840">
              <a:lnSpc>
                <a:spcPct val="90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ep 3: Navigate The Process Flow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12960" indent="-228600">
              <a:lnSpc>
                <a:spcPct val="90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avigate Process Flows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mple Process Flows for A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5600" indent="-285840">
              <a:lnSpc>
                <a:spcPct val="90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ate Vouc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5600" indent="-285840">
              <a:lnSpc>
                <a:spcPct val="90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tch and Approve Vouc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5600" indent="-285840">
              <a:lnSpc>
                <a:spcPct val="90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concile Payab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5600" indent="-285840">
              <a:lnSpc>
                <a:spcPct val="90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concile Payables Bank Stat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5600" indent="-285840">
              <a:lnSpc>
                <a:spcPct val="90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ttle Supplier Invoi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5600" indent="-285840">
              <a:lnSpc>
                <a:spcPct val="90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cur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tructions on how to access Process Flows onli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476360"/>
            <a:ext cx="868032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This document serves to: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925"/>
              </a:spcBef>
              <a:spcAft>
                <a:spcPts val="275"/>
              </a:spcAft>
              <a:buClr>
                <a:srgbClr val="d0a66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Instruct the user on the access procedure for PeopleSoft FMS 8.8 Process Flows on PeopleSoft Sandbo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925"/>
              </a:spcBef>
              <a:spcAft>
                <a:spcPts val="275"/>
              </a:spcAft>
              <a:buClr>
                <a:srgbClr val="d0a66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Provide sample process flows from PeopleSoft Accounts Payables 8.8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p 1: Login to Cisco VP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28600" y="1476360"/>
            <a:ext cx="868032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unch VPN Dial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25600" indent="-285840">
              <a:lnSpc>
                <a:spcPct val="90000"/>
              </a:lnSpc>
              <a:spcBef>
                <a:spcPts val="1125"/>
              </a:spcBef>
              <a:spcAft>
                <a:spcPts val="224"/>
              </a:spcAft>
              <a:buClr>
                <a:srgbClr val="d0a66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 Entry: SVOVPN.bscdev.bearingpoin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5600" indent="-285840">
              <a:lnSpc>
                <a:spcPct val="90000"/>
              </a:lnSpc>
              <a:spcBef>
                <a:spcPts val="1125"/>
              </a:spcBef>
              <a:spcAft>
                <a:spcPts val="224"/>
              </a:spcAft>
              <a:buClr>
                <a:srgbClr val="d0a66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st name or IP Address of remote server: SVOVPN.bscdev.bearingpoin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5600" indent="-285840">
              <a:lnSpc>
                <a:spcPct val="90000"/>
              </a:lnSpc>
              <a:spcBef>
                <a:spcPts val="1125"/>
              </a:spcBef>
              <a:spcAft>
                <a:spcPts val="224"/>
              </a:spcAft>
              <a:buClr>
                <a:srgbClr val="d0a66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on “Connect” but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5600" indent="-285840">
              <a:lnSpc>
                <a:spcPct val="90000"/>
              </a:lnSpc>
              <a:spcBef>
                <a:spcPts val="1125"/>
              </a:spcBef>
              <a:spcAft>
                <a:spcPts val="224"/>
              </a:spcAft>
              <a:buClr>
                <a:srgbClr val="d0a66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name: &lt;firstname.lastna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5600" indent="-285840">
              <a:lnSpc>
                <a:spcPct val="90000"/>
              </a:lnSpc>
              <a:spcBef>
                <a:spcPts val="1125"/>
              </a:spcBef>
              <a:spcAft>
                <a:spcPts val="224"/>
              </a:spcAft>
              <a:buClr>
                <a:srgbClr val="d0a66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ssword: &lt;your pw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5600" indent="-285840">
              <a:lnSpc>
                <a:spcPct val="90000"/>
              </a:lnSpc>
              <a:spcBef>
                <a:spcPts val="1125"/>
              </a:spcBef>
              <a:spcAft>
                <a:spcPts val="224"/>
              </a:spcAft>
              <a:buClr>
                <a:srgbClr val="d0a66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main: bscd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5600" indent="-285840">
              <a:lnSpc>
                <a:spcPct val="90000"/>
              </a:lnSpc>
              <a:spcBef>
                <a:spcPts val="1125"/>
              </a:spcBef>
              <a:spcAft>
                <a:spcPts val="224"/>
              </a:spcAft>
              <a:buClr>
                <a:srgbClr val="d0a66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“OK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f you do not have a BSC Account, go to </a:t>
            </a:r>
            <a:r>
              <a:rPr b="1" lang="en-US" sz="2200" spc="-1" strike="noStrike" u="sng">
                <a:solidFill>
                  <a:srgbClr val="0101ff"/>
                </a:solidFill>
                <a:uFillTx/>
                <a:latin typeface="Arial"/>
                <a:hlinkClick r:id="rId1"/>
              </a:rPr>
              <a:t>http://inside.corp.bearingpoint.com/?</a:t>
            </a:r>
            <a:r>
              <a:rPr b="1" lang="en-US" sz="2200" spc="-1" strike="noStrike" u="sng">
                <a:solidFill>
                  <a:srgbClr val="0101ff"/>
                </a:solidFill>
                <a:uFillTx/>
                <a:latin typeface="Arial"/>
                <a:hlinkClick r:id="rId2"/>
              </a:rPr>
              <a:t>nodeid</a:t>
            </a:r>
            <a:r>
              <a:rPr b="1" lang="en-US" sz="2200" spc="-1" strike="noStrike" u="sng">
                <a:solidFill>
                  <a:srgbClr val="0101ff"/>
                </a:solidFill>
                <a:uFillTx/>
                <a:latin typeface="Arial"/>
                <a:hlinkClick r:id="rId3"/>
              </a:rPr>
              <a:t>=28705&amp;</a:t>
            </a:r>
            <a:r>
              <a:rPr b="1" lang="en-US" sz="2200" spc="-1" strike="noStrike" u="sng">
                <a:solidFill>
                  <a:srgbClr val="0101ff"/>
                </a:solidFill>
                <a:uFillTx/>
                <a:latin typeface="Arial"/>
                <a:hlinkClick r:id="rId4"/>
              </a:rPr>
              <a:t>ContentTypeID</a:t>
            </a:r>
            <a:r>
              <a:rPr b="1" lang="en-US" sz="2200" spc="-1" strike="noStrike" u="sng">
                <a:solidFill>
                  <a:srgbClr val="0101ff"/>
                </a:solidFill>
                <a:uFillTx/>
                <a:latin typeface="Arial"/>
                <a:hlinkClick r:id="rId5"/>
              </a:rPr>
              <a:t>=14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to download access procedur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tep 2: Access the Process Flow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8240" y="1247760"/>
            <a:ext cx="8645400" cy="4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he process flows can be accessed via </a:t>
            </a:r>
            <a:r>
              <a:rPr b="0" lang="en-US" sz="1800" spc="-1" strike="noStrike" u="sng">
                <a:solidFill>
                  <a:srgbClr val="0101ff"/>
                </a:solidFill>
                <a:uFillTx/>
                <a:latin typeface="Arial"/>
                <a:ea typeface="Times New Roman"/>
                <a:hlinkClick r:id="rId1"/>
              </a:rPr>
              <a:t>http://172.16.24.33/</a:t>
            </a:r>
            <a:r>
              <a:rPr b="0" lang="en-US" sz="1800" spc="-1" strike="noStrike" u="sng">
                <a:solidFill>
                  <a:srgbClr val="0101ff"/>
                </a:solidFill>
                <a:uFillTx/>
                <a:latin typeface="Arial"/>
                <a:ea typeface="Times New Roman"/>
                <a:hlinkClick r:id="rId2"/>
              </a:rPr>
              <a:t>psoft</a:t>
            </a:r>
            <a:r>
              <a:rPr b="0" lang="en-US" sz="1800" spc="-1" strike="noStrike" u="sng">
                <a:solidFill>
                  <a:srgbClr val="0101ff"/>
                </a:solidFill>
                <a:uFillTx/>
                <a:latin typeface="Arial"/>
                <a:ea typeface="Times New Roman"/>
                <a:hlinkClick r:id="rId3"/>
              </a:rPr>
              <a:t>/fms88/index.</a:t>
            </a:r>
            <a:r>
              <a:rPr b="0" lang="en-US" sz="1800" spc="-1" strike="noStrike" u="sng">
                <a:solidFill>
                  <a:srgbClr val="0101ff"/>
                </a:solidFill>
                <a:uFillTx/>
                <a:latin typeface="Arial"/>
                <a:ea typeface="Times New Roman"/>
                <a:hlinkClick r:id="rId4"/>
              </a:rPr>
              <a:t>ht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833480" y="13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5"/>
          <a:stretch/>
        </p:blipFill>
        <p:spPr>
          <a:xfrm>
            <a:off x="1305000" y="1612800"/>
            <a:ext cx="6624720" cy="497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tep 3: Navigate the Process Flows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240" y="1247760"/>
            <a:ext cx="8721720" cy="4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lick on the “Process Modeler: ++PeopleSoft Enterprise” hyperlink on the left panel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833480" y="13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833480" y="13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306440" y="1608120"/>
            <a:ext cx="6627960" cy="497844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1143000" y="2870280"/>
            <a:ext cx="2006640" cy="228600"/>
          </a:xfrm>
          <a:prstGeom prst="ellipse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Navigate Process Flows Example: Process Flows for Accounts Payable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240" y="1247760"/>
            <a:ext cx="8645400" cy="4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lick on “Procurement”, then “Process Modeler: Procurement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833480" y="13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833480" y="13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833480" y="13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306440" y="1608120"/>
            <a:ext cx="6627960" cy="497844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4000680" y="4610160"/>
            <a:ext cx="1422360" cy="228600"/>
          </a:xfrm>
          <a:prstGeom prst="ellipse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306440" y="1608120"/>
            <a:ext cx="6635880" cy="4977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Navigate Process Flows Example: Process Flows for Accounts Payable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28240" y="1247760"/>
            <a:ext cx="8645400" cy="4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indent="0">
              <a:lnSpc>
                <a:spcPct val="90000"/>
              </a:lnSpc>
              <a:spcBef>
                <a:spcPts val="1576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o access the next level of process flow, click on “Process Modeler: Settle Supplier Invoice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833480" y="13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833480" y="13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833480" y="13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851360" y="5473800"/>
            <a:ext cx="1854360" cy="215640"/>
          </a:xfrm>
          <a:prstGeom prst="ellipse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600200" y="12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5:43:05Z</dcterms:created>
  <dc:creator>R²i For PeopleSoft</dc:creator>
  <dc:description>&lt;CLIENT NAME&gt;</dc:description>
  <cp:keywords>8.8</cp:keywords>
  <dc:language>en-US</dc:language>
  <cp:lastModifiedBy>Grace Mierwa</cp:lastModifiedBy>
  <dcterms:modified xsi:type="dcterms:W3CDTF">2004-09-20T16:30:05Z</dcterms:modified>
  <cp:revision>215</cp:revision>
  <dc:subject>&lt;PROJECT NAME&gt;</dc:subject>
  <dc:title>General Ledger</dc:title>
</cp:coreProperties>
</file>